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3E6E-2DD9-4BBA-B6E3-7D6248496D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54D7-1AFB-40FF-802E-B3165360062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A09-4FCD-4B3C-8A7F-9433BB47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5AB-C5EA-4528-B667-F94266D6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129-D5DB-487C-ABEE-737A1277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CDC-7010-40E2-BEB2-F765CE24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9B80-E91E-4054-8A80-1369D3EA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9D08-33E2-4139-91BB-95554510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7B49-E851-4BC7-B81E-FF12B014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2D3D-C28F-4E17-ADF7-1ED1B516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6F0C-1CDD-4854-88C9-D5C3414A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C28D-1294-4D52-8FDB-C7CCECE3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435F-28E6-4A53-AA47-9600707B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88D-8BAB-41FD-85DE-C9767A18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26AE-2E34-4718-94DE-B3E817E8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DF16-92A5-42A5-B633-784E0F8E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D560-86DF-4FAF-8BCC-6F9A2634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B32C-826D-4015-B3C6-78B3EF59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2E39-BF7B-42F7-9DDF-4973E970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E9B7F-9692-4FC9-BC32-191FFF2E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D49D4-1497-4AD9-B3FD-032E8F02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16C13-9D6F-4ED0-BA59-71BFAAB5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1B4C2-494C-492C-AAC9-E913395B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B9E1A-8905-4849-A3E7-F433C1E0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F41-46EC-4010-9A6B-2375F13D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7B5C1-2AA2-4AD7-A51F-907928A9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A8908-373E-4DDB-8A1F-175185A0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1559E-972D-40AC-94D4-93AB5063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88961-0DB9-4F04-AB55-D4F42E6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A7264-4FFA-433B-A907-A41BF6FA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7A951-1B23-4B55-90D5-1D840284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4B7A4-4859-418D-BBDA-EF4DE760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E9EB6-810E-4BB7-B003-6230A95A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8F041-DFAF-4720-91FF-EBE6973E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4F6C0-7AC5-4492-AA14-21B2AC4C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943-A1E4-4126-B271-D8206D2A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BA2F9-F220-49FB-A854-E9B9D19B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9D4BC8-BCCB-484B-8F52-895B7CD5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6B5905-85FE-4086-AD74-6E914B28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B15214-FF24-4FEC-B53A-13A0AF0A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22A8A4-192D-4AD8-80CE-497C316D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150D7-5A33-4753-9954-9499BAC7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3443F-4A09-436E-9DC9-C7EBE725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2B2E6-E168-4BF9-8DE5-D9ECF005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E003E9-0768-47E8-9053-53F0B866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D9BB6-DF35-4608-A52F-F366C23B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B8C-D673-446C-994F-AB8D859C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C17FA-F86E-4D65-83DF-8B255EC4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B2117-C40E-4413-82D5-C9E7E933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8E011-640D-4B5E-BD77-9B62E2AC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454DB-AA97-4E11-B137-1E87786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5BCEA-B754-410C-A6B4-CEAA32FE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2614E-585E-444B-B9DE-BF783086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C96BC-281F-4C6E-895A-4D63AA62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4651E-AE70-4BF2-A272-66884607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E3538-7831-41AC-A2B6-E3852F6C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120FF-1180-4C53-8C35-1101B6B8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2DB-EFA3-46AE-94E5-B071969F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A62E3-1BC3-489F-AF52-DBEC1087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330F5-95CA-4FA4-B3F1-CECF6A37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5C7F-70F7-4205-9EAC-EF376837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1D1D8-326C-4947-8648-2C5EDBCC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ABF1A-BAE1-4329-916B-8FAD8EC3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688B-B4E5-4CCF-AAAD-A0C7086E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E172E-EA56-45E0-8F9D-B40F4B66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47C0-C33C-4393-AB26-CCA1442E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74D8C-1233-49DE-BA48-EC4937A2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4347-3A17-4552-9DA9-B092F354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327-84F4-424F-8C0B-6F2E9A2C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C44E7-1227-4E05-AEE9-E564A1C1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0CF76-4B4A-412A-93B2-7309E700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73CA4-D5CA-4809-B4FF-9EF1D0AA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184303-6D5C-4630-A162-D6F4BB29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B680E0-D59D-47B2-8028-5613338A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047CF-9DC2-48F0-8816-2AD3E65D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8F53A-30A9-4094-B281-0DC45F33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9CF7B-5DD9-4303-8EDE-E21EC301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0EB80-EF87-45E2-8744-4620C552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2C8AF-2037-4C7C-8AD8-DC9EC661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7EE-B249-44E3-8BAF-0022ACB2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F48DA-A0AD-4452-A26B-90E831A4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9D1C4-E8BE-43F9-9D54-CE5B8595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F3247-F0AD-4D2D-9C25-017E058F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AB23BD-22CA-4F2D-867D-68D6F595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DD6567-1A3D-4CED-BB9C-5A0E4B9D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C1BF8-41CA-4851-969B-426CD212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A6A8B-00D8-45CF-B7C1-639C6B80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896FF-B364-4BEB-83DE-6DAAB8E4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B472E-44BE-4A31-BEC7-D4E194DC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50010-C241-4DFD-A01C-ECB2AFE7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E93-4F57-4E28-836C-BEA5395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0F4F2-9DDE-4DC3-9EEE-084DAD45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43B6-8B22-45F7-ADBE-67D9A758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6BC39-38FB-40E8-9135-E1FB067E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EDC97-EFDB-4E39-A29C-A42F3A1D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8EAA4-890F-4452-A124-669A4D50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AC053-3F43-48D3-8757-55F2BA75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15CB6-EEEE-4E28-985B-DBFB5615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35A2-F591-4AB4-BB99-AAC76B668161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92C6-FBCA-4CAE-B8C3-5A16C124AC7A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1A0E-3652-46A4-82F2-4FD61BDBE51F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B3CD-388D-4052-BD9F-1A3C3A586862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0D27-7CB5-47AF-A689-98F510AB3891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D4F6-08A9-453A-AB12-033438BB2B40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1324-4C5F-43B0-8EDB-92D5270815A6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D797-3040-4948-B15A-EA9549C4C811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dc3"/>
                </a:solidFill>
                <a:latin typeface="Tw Cen MT"/>
              </a:rPr>
              <a:t>TEMA 12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w Cen MT"/>
              </a:rPr>
              <a:t>Consecuencias del movimiento de las placa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w Cen MT"/>
              </a:rPr>
              <a:t>CICLO DE WILSON </a:t>
            </a:r>
            <a:r>
              <a:rPr b="1" lang="es-ES" sz="44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os procesos de tectónica de placas pueden resumirse en un esquema secuencial que se conoce como </a:t>
            </a: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CICLO DE WILSON. Estos procesos pueden observarse en diferentes zonas del planeta. </a:t>
            </a: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1.- ( Esquema 1 y 2)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428840"/>
            <a:ext cx="3257640" cy="46972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w Cen MT"/>
              </a:rPr>
              <a:t>El ciclo comienza con la fragmentación de un continente debido a la acción de un punto caliente. Esto provoca adelgazamiento y fracturación de la litosfera. Aparece entonces un Rift, que ira evolucionando y rellenándose de agua. En la actualidad esto está ocurriendo en el Rift African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4129200" y="2081160"/>
            <a:ext cx="286704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5 Rectángulo"/>
          <p:cNvSpPr/>
          <p:nvPr/>
        </p:nvSpPr>
        <p:spPr>
          <a:xfrm>
            <a:off x="428760" y="1643040"/>
            <a:ext cx="692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w Cen MT"/>
              </a:rPr>
              <a:t>2.- La segunda fase del Ciclo del Wilson es la Expansión del fondo oceánico a ambos lados de la Dors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w Cen MT"/>
              </a:rPr>
              <a:t>( Esquema 3). En la actualidad esto puede observarse en el Océano Atlán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La Isla de Islandia es una cresta de la dorsal Atlántica que sobresale del agua, por lo tanto en esta Isla pueden observarse una serie de volcanes fisurales que la atraviesan y la expanden a ambos l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3.- A medida que la dorsal va expandiendo el océano la corteza se irá enfriando a ambos lados de la dorsal y se van depositando materiales en los márgenes continentales. La presión hará que la corteza oceánica se fracture y se hunda por debajo de la corteza continental menos densa o de otra corteza oceánica ( Ver tipos de subducción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( Esquema 4). Esto ocurre en el Océano Pacífico. </a:t>
            </a: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4.- La subducción provocará la formación de montañas en los bordes continentales o de arcos de islas en los suelos oceánicos que serán zonas de gran actividad sísmica y volcánica. ( Esquema 4 y 5). Es el caso del Océano Pacífico y Sudamérica, con la formación de la Cordillera de los Andes. También en algunas zonas los desplazamientos en diferentes direcciones de las placas provocan fallas como la de San Andrés en California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5.- Cuando la dorsal se aproxima a la costa, se introduce ella misma por subdución y comienza el cierre. Al colisionar los continentes se producen montañas intracontinentales de grandes alturas. (Esquema 6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( </a:t>
            </a: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OBDUCCIÓN). ( Es el caso del Himalaya). </a:t>
            </a: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429760" cy="56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5f55"/>
                </a:solidFill>
                <a:latin typeface="Tw Cen MT"/>
              </a:rPr>
              <a:t>Consecuencias del movimiento de las placa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Pliegu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Fall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Diaclas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Cordilleras: pericontinentales , intercontinentales  y arco isla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dc3"/>
                </a:solidFill>
                <a:latin typeface="Tw Cen MT"/>
              </a:rPr>
              <a:t>DINÁMICA LITOSFÉRIC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w Cen MT"/>
              </a:rPr>
              <a:t>Deformaciones corticales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78"/>
          <p:cNvSpPr/>
          <p:nvPr/>
        </p:nvSpPr>
        <p:spPr>
          <a:xfrm>
            <a:off x="2428920" y="71424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MMedium"/>
              </a:rPr>
              <a:t>Tipos de defor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79"/>
          <p:cNvGrpSpPr/>
          <p:nvPr/>
        </p:nvGrpSpPr>
        <p:grpSpPr>
          <a:xfrm>
            <a:off x="170280" y="1850040"/>
            <a:ext cx="5110920" cy="4123440"/>
            <a:chOff x="170280" y="1850040"/>
            <a:chExt cx="5110920" cy="4123440"/>
          </a:xfrm>
        </p:grpSpPr>
        <p:pic>
          <p:nvPicPr>
            <p:cNvPr id="365" name="Picture 80" descr="C:\dibujossm\Geología 17\t17-2a.jpg"/>
            <p:cNvPicPr/>
            <p:nvPr/>
          </p:nvPicPr>
          <p:blipFill>
            <a:blip r:embed="rId1"/>
            <a:stretch/>
          </p:blipFill>
          <p:spPr>
            <a:xfrm>
              <a:off x="904680" y="2163960"/>
              <a:ext cx="4305240" cy="31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Group 81"/>
            <p:cNvGrpSpPr/>
            <p:nvPr/>
          </p:nvGrpSpPr>
          <p:grpSpPr>
            <a:xfrm>
              <a:off x="565560" y="2139840"/>
              <a:ext cx="4612680" cy="3432960"/>
              <a:chOff x="565560" y="2139840"/>
              <a:chExt cx="4612680" cy="3432960"/>
            </a:xfrm>
          </p:grpSpPr>
          <p:sp>
            <p:nvSpPr>
              <p:cNvPr id="367" name="Rectangle 82"/>
              <p:cNvSpPr/>
              <p:nvPr/>
            </p:nvSpPr>
            <p:spPr>
              <a:xfrm>
                <a:off x="710280" y="530244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83"/>
              <p:cNvSpPr/>
              <p:nvPr/>
            </p:nvSpPr>
            <p:spPr>
              <a:xfrm>
                <a:off x="1662840" y="53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84"/>
              <p:cNvSpPr/>
              <p:nvPr/>
            </p:nvSpPr>
            <p:spPr>
              <a:xfrm>
                <a:off x="2480400" y="53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85"/>
              <p:cNvSpPr/>
              <p:nvPr/>
            </p:nvSpPr>
            <p:spPr>
              <a:xfrm>
                <a:off x="3299760" y="53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86"/>
              <p:cNvSpPr/>
              <p:nvPr/>
            </p:nvSpPr>
            <p:spPr>
              <a:xfrm>
                <a:off x="4118760" y="53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87"/>
              <p:cNvSpPr/>
              <p:nvPr/>
            </p:nvSpPr>
            <p:spPr>
              <a:xfrm>
                <a:off x="4888440" y="535932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88"/>
              <p:cNvSpPr/>
              <p:nvPr/>
            </p:nvSpPr>
            <p:spPr>
              <a:xfrm>
                <a:off x="584640" y="441648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89"/>
              <p:cNvSpPr/>
              <p:nvPr/>
            </p:nvSpPr>
            <p:spPr>
              <a:xfrm>
                <a:off x="575280" y="367344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90"/>
              <p:cNvSpPr/>
              <p:nvPr/>
            </p:nvSpPr>
            <p:spPr>
              <a:xfrm>
                <a:off x="565560" y="293076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91"/>
              <p:cNvSpPr/>
              <p:nvPr/>
            </p:nvSpPr>
            <p:spPr>
              <a:xfrm>
                <a:off x="565560" y="219708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2"/>
              <p:cNvSpPr/>
              <p:nvPr/>
            </p:nvSpPr>
            <p:spPr>
              <a:xfrm>
                <a:off x="893520" y="2139840"/>
                <a:ext cx="4284720" cy="3171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93"/>
              <p:cNvSpPr/>
              <p:nvPr/>
            </p:nvSpPr>
            <p:spPr>
              <a:xfrm flipV="1">
                <a:off x="846000" y="5311800"/>
                <a:ext cx="4752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94"/>
              <p:cNvSpPr/>
              <p:nvPr/>
            </p:nvSpPr>
            <p:spPr>
              <a:xfrm>
                <a:off x="826920" y="4568760"/>
                <a:ext cx="66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95"/>
              <p:cNvSpPr/>
              <p:nvPr/>
            </p:nvSpPr>
            <p:spPr>
              <a:xfrm flipV="1">
                <a:off x="1712520" y="532152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96"/>
              <p:cNvSpPr/>
              <p:nvPr/>
            </p:nvSpPr>
            <p:spPr>
              <a:xfrm flipV="1">
                <a:off x="2530080" y="532152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97"/>
              <p:cNvSpPr/>
              <p:nvPr/>
            </p:nvSpPr>
            <p:spPr>
              <a:xfrm flipV="1">
                <a:off x="3339720" y="532152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98"/>
              <p:cNvSpPr/>
              <p:nvPr/>
            </p:nvSpPr>
            <p:spPr>
              <a:xfrm flipV="1">
                <a:off x="4159080" y="5321520"/>
                <a:ext cx="14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99"/>
              <p:cNvSpPr/>
              <p:nvPr/>
            </p:nvSpPr>
            <p:spPr>
              <a:xfrm flipV="1">
                <a:off x="4978080" y="532152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00"/>
              <p:cNvSpPr/>
              <p:nvPr/>
            </p:nvSpPr>
            <p:spPr>
              <a:xfrm>
                <a:off x="826920" y="382608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01"/>
              <p:cNvSpPr/>
              <p:nvPr/>
            </p:nvSpPr>
            <p:spPr>
              <a:xfrm>
                <a:off x="826920" y="308304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02"/>
              <p:cNvSpPr/>
              <p:nvPr/>
            </p:nvSpPr>
            <p:spPr>
              <a:xfrm>
                <a:off x="826920" y="234972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03"/>
            <p:cNvSpPr/>
            <p:nvPr/>
          </p:nvSpPr>
          <p:spPr>
            <a:xfrm>
              <a:off x="836280" y="1850040"/>
              <a:ext cx="444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w Cen MT"/>
                </a:rPr>
                <a:t>RELACIÓN ENTRE ESFUERZO Y DE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04"/>
            <p:cNvSpPr/>
            <p:nvPr/>
          </p:nvSpPr>
          <p:spPr>
            <a:xfrm>
              <a:off x="2477880" y="5453280"/>
              <a:ext cx="153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Deformación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05"/>
            <p:cNvSpPr/>
            <p:nvPr/>
          </p:nvSpPr>
          <p:spPr>
            <a:xfrm rot="16200000">
              <a:off x="-441000" y="3356280"/>
              <a:ext cx="15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Esfuerzo (kb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06"/>
          <p:cNvSpPr/>
          <p:nvPr/>
        </p:nvSpPr>
        <p:spPr>
          <a:xfrm>
            <a:off x="5702400" y="1696680"/>
            <a:ext cx="301608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TIPOS DE DEFORM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7"/>
          <p:cNvSpPr/>
          <p:nvPr/>
        </p:nvSpPr>
        <p:spPr>
          <a:xfrm>
            <a:off x="5452920" y="2347560"/>
            <a:ext cx="1022400" cy="337320"/>
          </a:xfrm>
          <a:prstGeom prst="rect">
            <a:avLst/>
          </a:prstGeom>
          <a:solidFill>
            <a:srgbClr val="a3f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08"/>
          <p:cNvSpPr/>
          <p:nvPr/>
        </p:nvSpPr>
        <p:spPr>
          <a:xfrm>
            <a:off x="5452920" y="3585960"/>
            <a:ext cx="2003400" cy="337320"/>
          </a:xfrm>
          <a:prstGeom prst="rect">
            <a:avLst/>
          </a:prstGeom>
          <a:solidFill>
            <a:srgbClr val="a3f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Plástica o dúct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9"/>
          <p:cNvSpPr/>
          <p:nvPr/>
        </p:nvSpPr>
        <p:spPr>
          <a:xfrm>
            <a:off x="5452920" y="4613040"/>
            <a:ext cx="1571760" cy="337320"/>
          </a:xfrm>
          <a:prstGeom prst="rect">
            <a:avLst/>
          </a:prstGeom>
          <a:solidFill>
            <a:srgbClr val="a3f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Por ro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0"/>
          <p:cNvSpPr/>
          <p:nvPr/>
        </p:nvSpPr>
        <p:spPr>
          <a:xfrm>
            <a:off x="5452920" y="2662200"/>
            <a:ext cx="3373560" cy="946440"/>
          </a:xfrm>
          <a:prstGeom prst="rect">
            <a:avLst/>
          </a:prstGeom>
          <a:solidFill>
            <a:srgbClr val="f8f6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l material se deforma al ser sometido a un esfuerzo pero recupera su forma y volumen cuando este c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1"/>
          <p:cNvSpPr/>
          <p:nvPr/>
        </p:nvSpPr>
        <p:spPr>
          <a:xfrm>
            <a:off x="5452920" y="4008960"/>
            <a:ext cx="3373560" cy="520200"/>
          </a:xfrm>
          <a:prstGeom prst="rect">
            <a:avLst/>
          </a:prstGeom>
          <a:solidFill>
            <a:srgbClr val="f8f6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La deformación permanece después de haber cesado el esfuerz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12"/>
          <p:cNvSpPr/>
          <p:nvPr/>
        </p:nvSpPr>
        <p:spPr>
          <a:xfrm>
            <a:off x="5452920" y="5036040"/>
            <a:ext cx="3373560" cy="520200"/>
          </a:xfrm>
          <a:prstGeom prst="rect">
            <a:avLst/>
          </a:prstGeom>
          <a:solidFill>
            <a:srgbClr val="f8f6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l esfuerzo hace perder la cohesión interna del material y se fract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13" descr="C:\dibujossm\Geología 17\t17-2a.WMF"/>
          <p:cNvPicPr/>
          <p:nvPr/>
        </p:nvPicPr>
        <p:blipFill>
          <a:blip r:embed="rId2"/>
          <a:stretch/>
        </p:blipFill>
        <p:spPr>
          <a:xfrm>
            <a:off x="2379600" y="2652840"/>
            <a:ext cx="2828880" cy="952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14" descr="C:\dibujossm\Geología 17\t17-2b.WMF"/>
          <p:cNvPicPr/>
          <p:nvPr/>
        </p:nvPicPr>
        <p:blipFill>
          <a:blip r:embed="rId3"/>
          <a:stretch/>
        </p:blipFill>
        <p:spPr>
          <a:xfrm>
            <a:off x="812880" y="3382920"/>
            <a:ext cx="1790640" cy="20383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15"/>
          <p:cNvSpPr/>
          <p:nvPr/>
        </p:nvSpPr>
        <p:spPr>
          <a:xfrm rot="18683400">
            <a:off x="612720" y="4078440"/>
            <a:ext cx="20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Deformación elá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16"/>
          <p:cNvSpPr/>
          <p:nvPr/>
        </p:nvSpPr>
        <p:spPr>
          <a:xfrm rot="20850000">
            <a:off x="2882880" y="2600280"/>
            <a:ext cx="186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Deformación plá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17"/>
          <p:cNvGrpSpPr/>
          <p:nvPr/>
        </p:nvGrpSpPr>
        <p:grpSpPr>
          <a:xfrm>
            <a:off x="965160" y="2636640"/>
            <a:ext cx="1616040" cy="923760"/>
            <a:chOff x="965160" y="2636640"/>
            <a:chExt cx="1616040" cy="923760"/>
          </a:xfrm>
        </p:grpSpPr>
        <p:sp>
          <p:nvSpPr>
            <p:cNvPr id="403" name="Text Box 118"/>
            <p:cNvSpPr/>
            <p:nvPr/>
          </p:nvSpPr>
          <p:spPr>
            <a:xfrm>
              <a:off x="965160" y="2636640"/>
              <a:ext cx="161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Límite de elastic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119"/>
            <p:cNvGrpSpPr/>
            <p:nvPr/>
          </p:nvGrpSpPr>
          <p:grpSpPr>
            <a:xfrm>
              <a:off x="1987200" y="2949120"/>
              <a:ext cx="567720" cy="611280"/>
              <a:chOff x="1987200" y="2949120"/>
              <a:chExt cx="567720" cy="611280"/>
            </a:xfrm>
          </p:grpSpPr>
          <p:sp>
            <p:nvSpPr>
              <p:cNvPr id="405" name="Line 120"/>
              <p:cNvSpPr/>
              <p:nvPr/>
            </p:nvSpPr>
            <p:spPr>
              <a:xfrm>
                <a:off x="1987200" y="2949120"/>
                <a:ext cx="491760" cy="53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121"/>
              <p:cNvSpPr/>
              <p:nvPr/>
            </p:nvSpPr>
            <p:spPr>
              <a:xfrm>
                <a:off x="2434680" y="3439800"/>
                <a:ext cx="120240" cy="120600"/>
              </a:xfrm>
              <a:prstGeom prst="ellips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Group 122"/>
          <p:cNvGrpSpPr/>
          <p:nvPr/>
        </p:nvGrpSpPr>
        <p:grpSpPr>
          <a:xfrm>
            <a:off x="3780000" y="2716200"/>
            <a:ext cx="1365840" cy="928800"/>
            <a:chOff x="3780000" y="2716200"/>
            <a:chExt cx="1365840" cy="928800"/>
          </a:xfrm>
        </p:grpSpPr>
        <p:sp>
          <p:nvSpPr>
            <p:cNvPr id="408" name="Text Box 123"/>
            <p:cNvSpPr/>
            <p:nvPr/>
          </p:nvSpPr>
          <p:spPr>
            <a:xfrm>
              <a:off x="3780000" y="3186000"/>
              <a:ext cx="131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Límite de ro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124"/>
            <p:cNvGrpSpPr/>
            <p:nvPr/>
          </p:nvGrpSpPr>
          <p:grpSpPr>
            <a:xfrm>
              <a:off x="4544280" y="2716200"/>
              <a:ext cx="601560" cy="622440"/>
              <a:chOff x="4544280" y="2716200"/>
              <a:chExt cx="601560" cy="622440"/>
            </a:xfrm>
          </p:grpSpPr>
          <p:sp>
            <p:nvSpPr>
              <p:cNvPr id="410" name="Line 125"/>
              <p:cNvSpPr/>
              <p:nvPr/>
            </p:nvSpPr>
            <p:spPr>
              <a:xfrm flipH="1">
                <a:off x="4544280" y="2774880"/>
                <a:ext cx="547560" cy="563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126"/>
              <p:cNvSpPr/>
              <p:nvPr/>
            </p:nvSpPr>
            <p:spPr>
              <a:xfrm>
                <a:off x="5025600" y="2716200"/>
                <a:ext cx="120240" cy="120600"/>
              </a:xfrm>
              <a:prstGeom prst="ellips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78"/>
          <p:cNvSpPr/>
          <p:nvPr/>
        </p:nvSpPr>
        <p:spPr>
          <a:xfrm>
            <a:off x="2286000" y="5716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MMedium"/>
              </a:rPr>
              <a:t>Deformaciones plásticas: los plie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9"/>
          <p:cNvSpPr/>
          <p:nvPr/>
        </p:nvSpPr>
        <p:spPr>
          <a:xfrm>
            <a:off x="212760" y="1128240"/>
            <a:ext cx="871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w Cen MT"/>
              </a:rPr>
              <a:t>Los </a:t>
            </a: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pliegues</a:t>
            </a:r>
            <a:r>
              <a:rPr b="0" lang="es-ES_tradnl" sz="1600" spc="-1" strike="noStrike">
                <a:solidFill>
                  <a:srgbClr val="000000"/>
                </a:solidFill>
                <a:latin typeface="Tw Cen MT"/>
              </a:rPr>
              <a:t> son flexiones u ondulaciones que presentan las masas de ro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80" descr="C:\dibujossm\Geología 17\t17-3a.jpg"/>
          <p:cNvPicPr/>
          <p:nvPr/>
        </p:nvPicPr>
        <p:blipFill>
          <a:blip r:embed="rId1"/>
          <a:stretch/>
        </p:blipFill>
        <p:spPr>
          <a:xfrm>
            <a:off x="4998960" y="2000160"/>
            <a:ext cx="3821040" cy="2333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1" descr="C:\dibujossm\Geología 17\t17-3b.jpg"/>
          <p:cNvPicPr/>
          <p:nvPr/>
        </p:nvPicPr>
        <p:blipFill>
          <a:blip r:embed="rId2"/>
          <a:stretch/>
        </p:blipFill>
        <p:spPr>
          <a:xfrm>
            <a:off x="326880" y="3575160"/>
            <a:ext cx="3603600" cy="28288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82"/>
          <p:cNvSpPr/>
          <p:nvPr/>
        </p:nvSpPr>
        <p:spPr>
          <a:xfrm>
            <a:off x="393840" y="220140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Direc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3"/>
          <p:cNvSpPr/>
          <p:nvPr/>
        </p:nvSpPr>
        <p:spPr>
          <a:xfrm>
            <a:off x="190440" y="27633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Buza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4"/>
          <p:cNvSpPr/>
          <p:nvPr/>
        </p:nvSpPr>
        <p:spPr>
          <a:xfrm>
            <a:off x="1447920" y="2117880"/>
            <a:ext cx="345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Ángulo que forma una horizontal  contenida en el estrato con la línea norte-s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5"/>
          <p:cNvSpPr/>
          <p:nvPr/>
        </p:nvSpPr>
        <p:spPr>
          <a:xfrm>
            <a:off x="1433520" y="2787840"/>
            <a:ext cx="345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Ángulo que forma la superficie del estrato con un plano horizont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6"/>
          <p:cNvSpPr/>
          <p:nvPr/>
        </p:nvSpPr>
        <p:spPr>
          <a:xfrm>
            <a:off x="1758960" y="4713120"/>
            <a:ext cx="64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Flan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rc 87"/>
          <p:cNvSpPr/>
          <p:nvPr/>
        </p:nvSpPr>
        <p:spPr>
          <a:xfrm>
            <a:off x="1822320" y="4268880"/>
            <a:ext cx="133560" cy="204840"/>
          </a:xfrm>
          <a:prstGeom prst="pie">
            <a:avLst/>
          </a:prstGeom>
          <a:noFill/>
          <a:ln w="15840">
            <a:solidFill>
              <a:srgbClr val="775f55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88"/>
          <p:cNvGrpSpPr/>
          <p:nvPr/>
        </p:nvGrpSpPr>
        <p:grpSpPr>
          <a:xfrm>
            <a:off x="1279440" y="4433760"/>
            <a:ext cx="1744920" cy="403560"/>
            <a:chOff x="1279440" y="4433760"/>
            <a:chExt cx="1744920" cy="403560"/>
          </a:xfrm>
        </p:grpSpPr>
        <p:sp>
          <p:nvSpPr>
            <p:cNvPr id="423" name="Line 89"/>
            <p:cNvSpPr/>
            <p:nvPr/>
          </p:nvSpPr>
          <p:spPr>
            <a:xfrm>
              <a:off x="1279440" y="4433760"/>
              <a:ext cx="1295280" cy="11412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90"/>
            <p:cNvSpPr/>
            <p:nvPr/>
          </p:nvSpPr>
          <p:spPr>
            <a:xfrm rot="268800">
              <a:off x="1472760" y="4501080"/>
              <a:ext cx="154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Línea de charn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1"/>
          <p:cNvGrpSpPr/>
          <p:nvPr/>
        </p:nvGrpSpPr>
        <p:grpSpPr>
          <a:xfrm>
            <a:off x="1274760" y="3845520"/>
            <a:ext cx="1400760" cy="590400"/>
            <a:chOff x="1274760" y="3845520"/>
            <a:chExt cx="1400760" cy="590400"/>
          </a:xfrm>
        </p:grpSpPr>
        <p:sp>
          <p:nvSpPr>
            <p:cNvPr id="426" name="Line 92"/>
            <p:cNvSpPr/>
            <p:nvPr/>
          </p:nvSpPr>
          <p:spPr>
            <a:xfrm flipV="1">
              <a:off x="1274760" y="4071600"/>
              <a:ext cx="1386000" cy="35712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93"/>
            <p:cNvSpPr/>
            <p:nvPr/>
          </p:nvSpPr>
          <p:spPr>
            <a:xfrm rot="20785800">
              <a:off x="1292040" y="4002120"/>
              <a:ext cx="136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Horizo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94"/>
          <p:cNvGrpSpPr/>
          <p:nvPr/>
        </p:nvGrpSpPr>
        <p:grpSpPr>
          <a:xfrm>
            <a:off x="458640" y="4090320"/>
            <a:ext cx="806400" cy="353160"/>
            <a:chOff x="458640" y="4090320"/>
            <a:chExt cx="806400" cy="353160"/>
          </a:xfrm>
        </p:grpSpPr>
        <p:sp>
          <p:nvSpPr>
            <p:cNvPr id="429" name="Text Box 95"/>
            <p:cNvSpPr/>
            <p:nvPr/>
          </p:nvSpPr>
          <p:spPr>
            <a:xfrm>
              <a:off x="458640" y="4090320"/>
              <a:ext cx="64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Cre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96"/>
            <p:cNvSpPr/>
            <p:nvPr/>
          </p:nvSpPr>
          <p:spPr>
            <a:xfrm>
              <a:off x="1045800" y="4281480"/>
              <a:ext cx="219240" cy="16200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97"/>
          <p:cNvGrpSpPr/>
          <p:nvPr/>
        </p:nvGrpSpPr>
        <p:grpSpPr>
          <a:xfrm>
            <a:off x="552600" y="5576400"/>
            <a:ext cx="774360" cy="593640"/>
            <a:chOff x="552600" y="5576400"/>
            <a:chExt cx="774360" cy="593640"/>
          </a:xfrm>
        </p:grpSpPr>
        <p:sp>
          <p:nvSpPr>
            <p:cNvPr id="432" name="Text Box 98"/>
            <p:cNvSpPr/>
            <p:nvPr/>
          </p:nvSpPr>
          <p:spPr>
            <a:xfrm>
              <a:off x="552600" y="5893560"/>
              <a:ext cx="77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Núcl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99"/>
            <p:cNvSpPr/>
            <p:nvPr/>
          </p:nvSpPr>
          <p:spPr>
            <a:xfrm flipV="1">
              <a:off x="943560" y="5576400"/>
              <a:ext cx="331920" cy="38124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100"/>
          <p:cNvSpPr/>
          <p:nvPr/>
        </p:nvSpPr>
        <p:spPr>
          <a:xfrm>
            <a:off x="2687760" y="3531600"/>
            <a:ext cx="13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Plano ax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01"/>
          <p:cNvGrpSpPr/>
          <p:nvPr/>
        </p:nvGrpSpPr>
        <p:grpSpPr>
          <a:xfrm>
            <a:off x="6119640" y="2528640"/>
            <a:ext cx="1564920" cy="686160"/>
            <a:chOff x="6119640" y="2528640"/>
            <a:chExt cx="1564920" cy="686160"/>
          </a:xfrm>
        </p:grpSpPr>
        <p:grpSp>
          <p:nvGrpSpPr>
            <p:cNvPr id="436" name="Group 102"/>
            <p:cNvGrpSpPr/>
            <p:nvPr/>
          </p:nvGrpSpPr>
          <p:grpSpPr>
            <a:xfrm>
              <a:off x="6311160" y="2528640"/>
              <a:ext cx="1373400" cy="686160"/>
              <a:chOff x="6311160" y="2528640"/>
              <a:chExt cx="1373400" cy="686160"/>
            </a:xfrm>
          </p:grpSpPr>
          <p:sp>
            <p:nvSpPr>
              <p:cNvPr id="437" name="Line 103"/>
              <p:cNvSpPr/>
              <p:nvPr/>
            </p:nvSpPr>
            <p:spPr>
              <a:xfrm flipH="1" flipV="1">
                <a:off x="6433560" y="2528640"/>
                <a:ext cx="1228680" cy="677880"/>
              </a:xfrm>
              <a:prstGeom prst="line">
                <a:avLst/>
              </a:prstGeom>
              <a:ln w="19080">
                <a:solidFill>
                  <a:srgbClr val="775f55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04"/>
              <p:cNvSpPr/>
              <p:nvPr/>
            </p:nvSpPr>
            <p:spPr>
              <a:xfrm flipH="1" flipV="1">
                <a:off x="6311160" y="2998800"/>
                <a:ext cx="1373400" cy="216000"/>
              </a:xfrm>
              <a:prstGeom prst="line">
                <a:avLst/>
              </a:prstGeom>
              <a:ln w="19080">
                <a:solidFill>
                  <a:srgbClr val="775f55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rc 105"/>
              <p:cNvSpPr/>
              <p:nvPr/>
            </p:nvSpPr>
            <p:spPr>
              <a:xfrm flipH="1">
                <a:off x="7217280" y="3005280"/>
                <a:ext cx="95400" cy="142920"/>
              </a:xfrm>
              <a:prstGeom prst="pie">
                <a:avLst/>
              </a:prstGeom>
              <a:noFill/>
              <a:ln w="15840">
                <a:solidFill>
                  <a:srgbClr val="775f55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Text Box 106"/>
            <p:cNvSpPr/>
            <p:nvPr/>
          </p:nvSpPr>
          <p:spPr>
            <a:xfrm>
              <a:off x="6119640" y="266544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Buz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07"/>
          <p:cNvGrpSpPr/>
          <p:nvPr/>
        </p:nvGrpSpPr>
        <p:grpSpPr>
          <a:xfrm>
            <a:off x="7535880" y="2168280"/>
            <a:ext cx="1057320" cy="654840"/>
            <a:chOff x="7535880" y="2168280"/>
            <a:chExt cx="1057320" cy="654840"/>
          </a:xfrm>
        </p:grpSpPr>
        <p:sp>
          <p:nvSpPr>
            <p:cNvPr id="442" name="Line 108"/>
            <p:cNvSpPr/>
            <p:nvPr/>
          </p:nvSpPr>
          <p:spPr>
            <a:xfrm flipV="1">
              <a:off x="7535880" y="2168280"/>
              <a:ext cx="374760" cy="64908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09"/>
            <p:cNvSpPr/>
            <p:nvPr/>
          </p:nvSpPr>
          <p:spPr>
            <a:xfrm>
              <a:off x="7608960" y="2546640"/>
              <a:ext cx="9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Dire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10"/>
          <p:cNvSpPr/>
          <p:nvPr/>
        </p:nvSpPr>
        <p:spPr>
          <a:xfrm>
            <a:off x="3919680" y="51652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Charne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11"/>
          <p:cNvSpPr/>
          <p:nvPr/>
        </p:nvSpPr>
        <p:spPr>
          <a:xfrm>
            <a:off x="3919680" y="49017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Flanc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2"/>
          <p:cNvSpPr/>
          <p:nvPr/>
        </p:nvSpPr>
        <p:spPr>
          <a:xfrm>
            <a:off x="3919680" y="4444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Plano axi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3"/>
          <p:cNvSpPr/>
          <p:nvPr/>
        </p:nvSpPr>
        <p:spPr>
          <a:xfrm>
            <a:off x="5221440" y="518040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zona de máxima curvat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4"/>
          <p:cNvSpPr/>
          <p:nvPr/>
        </p:nvSpPr>
        <p:spPr>
          <a:xfrm>
            <a:off x="5221440" y="491544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zonas a ambos lados de la charne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5"/>
          <p:cNvSpPr/>
          <p:nvPr/>
        </p:nvSpPr>
        <p:spPr>
          <a:xfrm>
            <a:off x="5221440" y="4472280"/>
            <a:ext cx="35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divide al pliegue en dos mitades lo más simétricas posi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6"/>
          <p:cNvSpPr/>
          <p:nvPr/>
        </p:nvSpPr>
        <p:spPr>
          <a:xfrm>
            <a:off x="3919680" y="5479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Cabec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7"/>
          <p:cNvSpPr/>
          <p:nvPr/>
        </p:nvSpPr>
        <p:spPr>
          <a:xfrm>
            <a:off x="5221440" y="5493240"/>
            <a:ext cx="34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ángulo que forma el eje del pliegue con la horizontal en el pl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18"/>
          <p:cNvSpPr/>
          <p:nvPr/>
        </p:nvSpPr>
        <p:spPr>
          <a:xfrm>
            <a:off x="3919680" y="59464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Núcl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19"/>
          <p:cNvSpPr/>
          <p:nvPr/>
        </p:nvSpPr>
        <p:spPr>
          <a:xfrm>
            <a:off x="5221440" y="597420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la parte más interna del plie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20"/>
          <p:cNvSpPr/>
          <p:nvPr/>
        </p:nvSpPr>
        <p:spPr>
          <a:xfrm>
            <a:off x="3919680" y="62193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Cres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1"/>
          <p:cNvSpPr/>
          <p:nvPr/>
        </p:nvSpPr>
        <p:spPr>
          <a:xfrm>
            <a:off x="5221440" y="624888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la zona más alta de un plie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22"/>
          <p:cNvSpPr/>
          <p:nvPr/>
        </p:nvSpPr>
        <p:spPr>
          <a:xfrm>
            <a:off x="3394080" y="4131360"/>
            <a:ext cx="415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w Cen MT"/>
              </a:rPr>
              <a:t>ELEMENTOS GEOMÉTRICOS DE UN PLIE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23"/>
          <p:cNvSpPr/>
          <p:nvPr/>
        </p:nvSpPr>
        <p:spPr>
          <a:xfrm>
            <a:off x="1822320" y="423792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Cabe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24"/>
          <p:cNvSpPr/>
          <p:nvPr/>
        </p:nvSpPr>
        <p:spPr>
          <a:xfrm>
            <a:off x="334800" y="1481400"/>
            <a:ext cx="8401320" cy="520200"/>
          </a:xfrm>
          <a:prstGeom prst="rect">
            <a:avLst/>
          </a:prstGeom>
          <a:solidFill>
            <a:srgbClr val="f8f6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Los pliegues cambian la disposición horizontal que inicialmente poseen los estratos. Para describir la nueva posición se utilizan dos medid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78"/>
          <p:cNvSpPr/>
          <p:nvPr/>
        </p:nvSpPr>
        <p:spPr>
          <a:xfrm>
            <a:off x="1857240" y="571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MMedium"/>
              </a:rPr>
              <a:t>Tipos de plie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16"/>
          <p:cNvGrpSpPr/>
          <p:nvPr/>
        </p:nvGrpSpPr>
        <p:grpSpPr>
          <a:xfrm>
            <a:off x="5451480" y="3637080"/>
            <a:ext cx="3440160" cy="2636640"/>
            <a:chOff x="5451480" y="3637080"/>
            <a:chExt cx="3440160" cy="2636640"/>
          </a:xfrm>
        </p:grpSpPr>
        <p:sp>
          <p:nvSpPr>
            <p:cNvPr id="461" name="Rectangle 117"/>
            <p:cNvSpPr/>
            <p:nvPr/>
          </p:nvSpPr>
          <p:spPr>
            <a:xfrm>
              <a:off x="5451480" y="3637080"/>
              <a:ext cx="3440160" cy="2636640"/>
            </a:xfrm>
            <a:prstGeom prst="rect">
              <a:avLst/>
            </a:prstGeom>
            <a:solidFill>
              <a:srgbClr val="f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18"/>
            <p:cNvSpPr/>
            <p:nvPr/>
          </p:nvSpPr>
          <p:spPr>
            <a:xfrm>
              <a:off x="5551920" y="3660840"/>
              <a:ext cx="263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6600"/>
                  </a:solidFill>
                  <a:latin typeface="Tw Cen MT"/>
                </a:rPr>
                <a:t>Por su simetr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19"/>
          <p:cNvGrpSpPr/>
          <p:nvPr/>
        </p:nvGrpSpPr>
        <p:grpSpPr>
          <a:xfrm>
            <a:off x="282600" y="3637080"/>
            <a:ext cx="5091120" cy="2638440"/>
            <a:chOff x="282600" y="3637080"/>
            <a:chExt cx="5091120" cy="2638440"/>
          </a:xfrm>
        </p:grpSpPr>
        <p:sp>
          <p:nvSpPr>
            <p:cNvPr id="464" name="Rectangle 120"/>
            <p:cNvSpPr/>
            <p:nvPr/>
          </p:nvSpPr>
          <p:spPr>
            <a:xfrm>
              <a:off x="282600" y="3637080"/>
              <a:ext cx="5091120" cy="2638440"/>
            </a:xfrm>
            <a:prstGeom prst="rect">
              <a:avLst/>
            </a:prstGeom>
            <a:solidFill>
              <a:srgbClr val="f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121"/>
            <p:cNvSpPr/>
            <p:nvPr/>
          </p:nvSpPr>
          <p:spPr>
            <a:xfrm>
              <a:off x="433800" y="3660120"/>
              <a:ext cx="389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6600"/>
                  </a:solidFill>
                  <a:latin typeface="Tw Cen MT"/>
                </a:rPr>
                <a:t>Según la posición de su plano ax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22"/>
          <p:cNvGrpSpPr/>
          <p:nvPr/>
        </p:nvGrpSpPr>
        <p:grpSpPr>
          <a:xfrm>
            <a:off x="270000" y="1123920"/>
            <a:ext cx="8645400" cy="2398680"/>
            <a:chOff x="270000" y="1123920"/>
            <a:chExt cx="8645400" cy="2398680"/>
          </a:xfrm>
        </p:grpSpPr>
        <p:sp>
          <p:nvSpPr>
            <p:cNvPr id="467" name="Rectangle 123"/>
            <p:cNvSpPr/>
            <p:nvPr/>
          </p:nvSpPr>
          <p:spPr>
            <a:xfrm>
              <a:off x="270000" y="1198440"/>
              <a:ext cx="8645400" cy="2324160"/>
            </a:xfrm>
            <a:prstGeom prst="rect">
              <a:avLst/>
            </a:prstGeom>
            <a:solidFill>
              <a:srgbClr val="f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24"/>
            <p:cNvSpPr/>
            <p:nvPr/>
          </p:nvSpPr>
          <p:spPr>
            <a:xfrm>
              <a:off x="540360" y="1123920"/>
              <a:ext cx="493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6600"/>
                  </a:solidFill>
                  <a:latin typeface="Tw Cen MT"/>
                </a:rPr>
                <a:t>Según la antigüedad de los materiales del núcl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5"/>
          <p:cNvSpPr/>
          <p:nvPr/>
        </p:nvSpPr>
        <p:spPr>
          <a:xfrm>
            <a:off x="936720" y="1285920"/>
            <a:ext cx="755316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26" descr="C:\dibujossm\Geología 17\t17-3c.jpg"/>
          <p:cNvPicPr/>
          <p:nvPr/>
        </p:nvPicPr>
        <p:blipFill>
          <a:blip r:embed="rId1"/>
          <a:stretch/>
        </p:blipFill>
        <p:spPr>
          <a:xfrm>
            <a:off x="6278400" y="1589040"/>
            <a:ext cx="2059200" cy="1835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27" descr="C:\dibujossm\Geología 17\t17-3d.jpg"/>
          <p:cNvPicPr/>
          <p:nvPr/>
        </p:nvPicPr>
        <p:blipFill>
          <a:blip r:embed="rId2"/>
          <a:stretch/>
        </p:blipFill>
        <p:spPr>
          <a:xfrm>
            <a:off x="2370240" y="1666800"/>
            <a:ext cx="2070000" cy="16542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28" descr="C:\dibujossm\Geología 17\t17-3e.jpg"/>
          <p:cNvPicPr/>
          <p:nvPr/>
        </p:nvPicPr>
        <p:blipFill>
          <a:blip r:embed="rId3"/>
          <a:stretch/>
        </p:blipFill>
        <p:spPr>
          <a:xfrm>
            <a:off x="5602320" y="4218120"/>
            <a:ext cx="1581120" cy="1247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29" descr="C:\dibujossm\Geología 17\t17-3f.jpg"/>
          <p:cNvPicPr/>
          <p:nvPr/>
        </p:nvPicPr>
        <p:blipFill>
          <a:blip r:embed="rId4"/>
          <a:stretch/>
        </p:blipFill>
        <p:spPr>
          <a:xfrm>
            <a:off x="414360" y="4218120"/>
            <a:ext cx="1509840" cy="1460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30" descr="C:\dibujossm\Geología 17\t17-3g.jpg"/>
          <p:cNvPicPr/>
          <p:nvPr/>
        </p:nvPicPr>
        <p:blipFill>
          <a:blip r:embed="rId5"/>
          <a:stretch/>
        </p:blipFill>
        <p:spPr>
          <a:xfrm>
            <a:off x="1971720" y="4218120"/>
            <a:ext cx="1515960" cy="1322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31" descr="C:\dibujossm\Geología 17\t17-3h.jpg"/>
          <p:cNvPicPr/>
          <p:nvPr/>
        </p:nvPicPr>
        <p:blipFill>
          <a:blip r:embed="rId6"/>
          <a:stretch/>
        </p:blipFill>
        <p:spPr>
          <a:xfrm>
            <a:off x="7218360" y="4218120"/>
            <a:ext cx="1515960" cy="13474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32" descr="C:\dibujossm\Geología 17\t17-3i.jpg"/>
          <p:cNvPicPr/>
          <p:nvPr/>
        </p:nvPicPr>
        <p:blipFill>
          <a:blip r:embed="rId7"/>
          <a:stretch/>
        </p:blipFill>
        <p:spPr>
          <a:xfrm>
            <a:off x="3535200" y="4218120"/>
            <a:ext cx="1654200" cy="12333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33"/>
          <p:cNvSpPr/>
          <p:nvPr/>
        </p:nvSpPr>
        <p:spPr>
          <a:xfrm>
            <a:off x="781200" y="183492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SINCL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4"/>
          <p:cNvSpPr/>
          <p:nvPr/>
        </p:nvSpPr>
        <p:spPr>
          <a:xfrm>
            <a:off x="4743360" y="1711440"/>
            <a:ext cx="14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ANTICL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35"/>
          <p:cNvSpPr/>
          <p:nvPr/>
        </p:nvSpPr>
        <p:spPr>
          <a:xfrm>
            <a:off x="6873840" y="309492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36"/>
          <p:cNvSpPr/>
          <p:nvPr/>
        </p:nvSpPr>
        <p:spPr>
          <a:xfrm>
            <a:off x="6873840" y="283608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7"/>
          <p:cNvSpPr/>
          <p:nvPr/>
        </p:nvSpPr>
        <p:spPr>
          <a:xfrm>
            <a:off x="6873840" y="2575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38"/>
          <p:cNvSpPr/>
          <p:nvPr/>
        </p:nvSpPr>
        <p:spPr>
          <a:xfrm>
            <a:off x="6873840" y="2359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9"/>
          <p:cNvSpPr/>
          <p:nvPr/>
        </p:nvSpPr>
        <p:spPr>
          <a:xfrm>
            <a:off x="6872400" y="211392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40"/>
          <p:cNvSpPr/>
          <p:nvPr/>
        </p:nvSpPr>
        <p:spPr>
          <a:xfrm>
            <a:off x="2471760" y="29710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41"/>
          <p:cNvSpPr/>
          <p:nvPr/>
        </p:nvSpPr>
        <p:spPr>
          <a:xfrm>
            <a:off x="2603520" y="2883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42"/>
          <p:cNvSpPr/>
          <p:nvPr/>
        </p:nvSpPr>
        <p:spPr>
          <a:xfrm>
            <a:off x="2722680" y="27378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43"/>
          <p:cNvSpPr/>
          <p:nvPr/>
        </p:nvSpPr>
        <p:spPr>
          <a:xfrm>
            <a:off x="2854440" y="262188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44"/>
          <p:cNvSpPr/>
          <p:nvPr/>
        </p:nvSpPr>
        <p:spPr>
          <a:xfrm>
            <a:off x="2984400" y="24757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45"/>
          <p:cNvSpPr/>
          <p:nvPr/>
        </p:nvSpPr>
        <p:spPr>
          <a:xfrm>
            <a:off x="3198960" y="22867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46"/>
          <p:cNvSpPr/>
          <p:nvPr/>
        </p:nvSpPr>
        <p:spPr>
          <a:xfrm>
            <a:off x="833400" y="2278080"/>
            <a:ext cx="148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n el núcleo tiene los materiales más mod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47"/>
          <p:cNvSpPr/>
          <p:nvPr/>
        </p:nvSpPr>
        <p:spPr>
          <a:xfrm>
            <a:off x="4762440" y="2276280"/>
            <a:ext cx="147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n el núcleo tiene los materiales más antig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48"/>
          <p:cNvSpPr/>
          <p:nvPr/>
        </p:nvSpPr>
        <p:spPr>
          <a:xfrm>
            <a:off x="549360" y="57589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R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9"/>
          <p:cNvSpPr/>
          <p:nvPr/>
        </p:nvSpPr>
        <p:spPr>
          <a:xfrm>
            <a:off x="2109960" y="5758920"/>
            <a:ext cx="13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INCL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0"/>
          <p:cNvSpPr/>
          <p:nvPr/>
        </p:nvSpPr>
        <p:spPr>
          <a:xfrm>
            <a:off x="3743280" y="57589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TUMB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51"/>
          <p:cNvSpPr/>
          <p:nvPr/>
        </p:nvSpPr>
        <p:spPr>
          <a:xfrm>
            <a:off x="5745240" y="5758920"/>
            <a:ext cx="13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SIMÉT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52"/>
          <p:cNvSpPr/>
          <p:nvPr/>
        </p:nvSpPr>
        <p:spPr>
          <a:xfrm>
            <a:off x="7262640" y="5758920"/>
            <a:ext cx="149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ASIMÉT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78"/>
          <p:cNvSpPr/>
          <p:nvPr/>
        </p:nvSpPr>
        <p:spPr>
          <a:xfrm>
            <a:off x="1857240" y="714240"/>
            <a:ext cx="53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MMedium"/>
              </a:rPr>
              <a:t>Tipos de fra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9"/>
          <p:cNvSpPr/>
          <p:nvPr/>
        </p:nvSpPr>
        <p:spPr>
          <a:xfrm>
            <a:off x="0" y="1168200"/>
            <a:ext cx="913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w Cen MT"/>
              </a:rPr>
              <a:t>Si el esfuerzo al que se somete una roca supera su límite de rotura, se produce una frac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0"/>
          <p:cNvSpPr/>
          <p:nvPr/>
        </p:nvSpPr>
        <p:spPr>
          <a:xfrm>
            <a:off x="1009800" y="1636200"/>
            <a:ext cx="14857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DIACL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1"/>
          <p:cNvSpPr/>
          <p:nvPr/>
        </p:nvSpPr>
        <p:spPr>
          <a:xfrm>
            <a:off x="6002280" y="1631520"/>
            <a:ext cx="14860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FA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82" descr="C:\dibujossm\Geología 17\t17-4a.jpg"/>
          <p:cNvPicPr/>
          <p:nvPr/>
        </p:nvPicPr>
        <p:blipFill>
          <a:blip r:embed="rId1"/>
          <a:stretch/>
        </p:blipFill>
        <p:spPr>
          <a:xfrm>
            <a:off x="4341960" y="2787480"/>
            <a:ext cx="4560840" cy="3042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3" descr="C:\dibujossm\Geología 17\T17-4.jpg"/>
          <p:cNvPicPr/>
          <p:nvPr/>
        </p:nvPicPr>
        <p:blipFill>
          <a:blip r:embed="rId2"/>
          <a:stretch/>
        </p:blipFill>
        <p:spPr>
          <a:xfrm>
            <a:off x="512640" y="2765520"/>
            <a:ext cx="2243160" cy="23320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84"/>
          <p:cNvSpPr/>
          <p:nvPr/>
        </p:nvSpPr>
        <p:spPr>
          <a:xfrm>
            <a:off x="162000" y="1944720"/>
            <a:ext cx="359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Fracturas en las que los bloques no se deplazan uno con respecto al otro o lo hacen ensanchando la grieta entre el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5"/>
          <p:cNvSpPr/>
          <p:nvPr/>
        </p:nvSpPr>
        <p:spPr>
          <a:xfrm>
            <a:off x="4586400" y="1873440"/>
            <a:ext cx="4317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Fracturas en las que se produce el desplazamiento de un bloque con respecto a o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6"/>
          <p:cNvSpPr/>
          <p:nvPr/>
        </p:nvSpPr>
        <p:spPr>
          <a:xfrm>
            <a:off x="3046320" y="5213880"/>
            <a:ext cx="2698920" cy="307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LEMENTOS DE UNA F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7"/>
          <p:cNvSpPr/>
          <p:nvPr/>
        </p:nvSpPr>
        <p:spPr>
          <a:xfrm>
            <a:off x="388800" y="560196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Plano de fal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8"/>
          <p:cNvSpPr/>
          <p:nvPr/>
        </p:nvSpPr>
        <p:spPr>
          <a:xfrm>
            <a:off x="2062080" y="5510520"/>
            <a:ext cx="485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superficie de fractura sobre la que se produce el desplaza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9"/>
          <p:cNvSpPr/>
          <p:nvPr/>
        </p:nvSpPr>
        <p:spPr>
          <a:xfrm>
            <a:off x="236520" y="590976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Labios de la fal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0"/>
          <p:cNvSpPr/>
          <p:nvPr/>
        </p:nvSpPr>
        <p:spPr>
          <a:xfrm>
            <a:off x="2062080" y="5934600"/>
            <a:ext cx="48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cada uno de los bloques en que queda dividido el terr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1"/>
          <p:cNvSpPr/>
          <p:nvPr/>
        </p:nvSpPr>
        <p:spPr>
          <a:xfrm>
            <a:off x="236520" y="620676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Salto de fal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2"/>
          <p:cNvSpPr/>
          <p:nvPr/>
        </p:nvSpPr>
        <p:spPr>
          <a:xfrm>
            <a:off x="2062080" y="6231600"/>
            <a:ext cx="48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medida del desplazamiento relativo entre los lab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93"/>
          <p:cNvGrpSpPr/>
          <p:nvPr/>
        </p:nvGrpSpPr>
        <p:grpSpPr>
          <a:xfrm>
            <a:off x="3214800" y="2656440"/>
            <a:ext cx="1976400" cy="443880"/>
            <a:chOff x="3214800" y="2656440"/>
            <a:chExt cx="1976400" cy="443880"/>
          </a:xfrm>
        </p:grpSpPr>
        <p:sp>
          <p:nvSpPr>
            <p:cNvPr id="513" name="Text Box 94"/>
            <p:cNvSpPr/>
            <p:nvPr/>
          </p:nvSpPr>
          <p:spPr>
            <a:xfrm>
              <a:off x="3214800" y="265644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Labio levan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95"/>
            <p:cNvSpPr/>
            <p:nvPr/>
          </p:nvSpPr>
          <p:spPr>
            <a:xfrm>
              <a:off x="4728960" y="2825640"/>
              <a:ext cx="462240" cy="27468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96"/>
          <p:cNvGrpSpPr/>
          <p:nvPr/>
        </p:nvGrpSpPr>
        <p:grpSpPr>
          <a:xfrm>
            <a:off x="7516800" y="2946960"/>
            <a:ext cx="1717560" cy="672480"/>
            <a:chOff x="7516800" y="2946960"/>
            <a:chExt cx="1717560" cy="672480"/>
          </a:xfrm>
        </p:grpSpPr>
        <p:sp>
          <p:nvSpPr>
            <p:cNvPr id="516" name="Text Box 97"/>
            <p:cNvSpPr/>
            <p:nvPr/>
          </p:nvSpPr>
          <p:spPr>
            <a:xfrm>
              <a:off x="7516800" y="294696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Labio hundi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98"/>
            <p:cNvSpPr/>
            <p:nvPr/>
          </p:nvSpPr>
          <p:spPr>
            <a:xfrm flipH="1">
              <a:off x="7557840" y="3171960"/>
              <a:ext cx="245880" cy="44748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99"/>
          <p:cNvGrpSpPr/>
          <p:nvPr/>
        </p:nvGrpSpPr>
        <p:grpSpPr>
          <a:xfrm>
            <a:off x="3692520" y="3403440"/>
            <a:ext cx="1717560" cy="1582200"/>
            <a:chOff x="3692520" y="3403440"/>
            <a:chExt cx="1717560" cy="1582200"/>
          </a:xfrm>
        </p:grpSpPr>
        <p:sp>
          <p:nvSpPr>
            <p:cNvPr id="519" name="Text Box 100"/>
            <p:cNvSpPr/>
            <p:nvPr/>
          </p:nvSpPr>
          <p:spPr>
            <a:xfrm>
              <a:off x="3692520" y="467856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Plano de fa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01"/>
            <p:cNvSpPr/>
            <p:nvPr/>
          </p:nvSpPr>
          <p:spPr>
            <a:xfrm flipV="1">
              <a:off x="5133960" y="3403440"/>
              <a:ext cx="244440" cy="144288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102"/>
          <p:cNvGrpSpPr/>
          <p:nvPr/>
        </p:nvGrpSpPr>
        <p:grpSpPr>
          <a:xfrm>
            <a:off x="6226200" y="2969280"/>
            <a:ext cx="1833120" cy="365760"/>
            <a:chOff x="6226200" y="2969280"/>
            <a:chExt cx="1833120" cy="365760"/>
          </a:xfrm>
        </p:grpSpPr>
        <p:sp>
          <p:nvSpPr>
            <p:cNvPr id="522" name="Text Box 103"/>
            <p:cNvSpPr/>
            <p:nvPr/>
          </p:nvSpPr>
          <p:spPr>
            <a:xfrm>
              <a:off x="6341760" y="296928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Salto de fa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04"/>
            <p:cNvSpPr/>
            <p:nvPr/>
          </p:nvSpPr>
          <p:spPr>
            <a:xfrm>
              <a:off x="6226200" y="3022560"/>
              <a:ext cx="201240" cy="312480"/>
            </a:xfrm>
            <a:prstGeom prst="line">
              <a:avLst/>
            </a:prstGeom>
            <a:ln w="22320">
              <a:solidFill>
                <a:srgbClr val="775f55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05"/>
          <p:cNvGrpSpPr/>
          <p:nvPr/>
        </p:nvGrpSpPr>
        <p:grpSpPr>
          <a:xfrm>
            <a:off x="5454720" y="4011840"/>
            <a:ext cx="502560" cy="354600"/>
            <a:chOff x="5454720" y="4011840"/>
            <a:chExt cx="502560" cy="354600"/>
          </a:xfrm>
        </p:grpSpPr>
        <p:grpSp>
          <p:nvGrpSpPr>
            <p:cNvPr id="525" name="Group 106"/>
            <p:cNvGrpSpPr/>
            <p:nvPr/>
          </p:nvGrpSpPr>
          <p:grpSpPr>
            <a:xfrm>
              <a:off x="5454720" y="4012200"/>
              <a:ext cx="273960" cy="354240"/>
              <a:chOff x="5454720" y="4012200"/>
              <a:chExt cx="273960" cy="354240"/>
            </a:xfrm>
          </p:grpSpPr>
          <p:sp>
            <p:nvSpPr>
              <p:cNvPr id="526" name="AutoShape 107"/>
              <p:cNvSpPr/>
              <p:nvPr/>
            </p:nvSpPr>
            <p:spPr>
              <a:xfrm flipH="1" rot="19760400">
                <a:off x="5495400" y="4017960"/>
                <a:ext cx="73440" cy="18180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08"/>
              <p:cNvSpPr/>
              <p:nvPr/>
            </p:nvSpPr>
            <p:spPr>
              <a:xfrm>
                <a:off x="5565960" y="4091760"/>
                <a:ext cx="162720" cy="27468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09"/>
            <p:cNvGrpSpPr/>
            <p:nvPr/>
          </p:nvGrpSpPr>
          <p:grpSpPr>
            <a:xfrm>
              <a:off x="5683320" y="4011840"/>
              <a:ext cx="273960" cy="354240"/>
              <a:chOff x="5683320" y="4011840"/>
              <a:chExt cx="273960" cy="354240"/>
            </a:xfrm>
          </p:grpSpPr>
          <p:sp>
            <p:nvSpPr>
              <p:cNvPr id="529" name="AutoShape 110"/>
              <p:cNvSpPr/>
              <p:nvPr/>
            </p:nvSpPr>
            <p:spPr>
              <a:xfrm flipV="1" rot="19760400">
                <a:off x="5842440" y="4178160"/>
                <a:ext cx="73440" cy="18180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11"/>
              <p:cNvSpPr/>
              <p:nvPr/>
            </p:nvSpPr>
            <p:spPr>
              <a:xfrm flipH="1" flipV="1">
                <a:off x="5683320" y="4011840"/>
                <a:ext cx="162720" cy="27468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78"/>
          <p:cNvSpPr/>
          <p:nvPr/>
        </p:nvSpPr>
        <p:spPr>
          <a:xfrm>
            <a:off x="1828800" y="573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MMedium"/>
              </a:rPr>
              <a:t>Tipos básicos de fa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79" descr="C:\dibujossm\Geología 17\t17-4b.jpg"/>
          <p:cNvPicPr/>
          <p:nvPr/>
        </p:nvPicPr>
        <p:blipFill>
          <a:blip r:embed="rId1"/>
          <a:stretch/>
        </p:blipFill>
        <p:spPr>
          <a:xfrm>
            <a:off x="299880" y="1442880"/>
            <a:ext cx="2286000" cy="1663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0" descr="C:\dibujossm\Geología 17\t17-4c.jpg"/>
          <p:cNvPicPr/>
          <p:nvPr/>
        </p:nvPicPr>
        <p:blipFill>
          <a:blip r:embed="rId2"/>
          <a:stretch/>
        </p:blipFill>
        <p:spPr>
          <a:xfrm>
            <a:off x="3554280" y="1450800"/>
            <a:ext cx="2103480" cy="16765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1" descr="C:\dibujossm\Geología 17\t17-4d.jpg"/>
          <p:cNvPicPr/>
          <p:nvPr/>
        </p:nvPicPr>
        <p:blipFill>
          <a:blip r:embed="rId3"/>
          <a:stretch/>
        </p:blipFill>
        <p:spPr>
          <a:xfrm>
            <a:off x="6554880" y="1525680"/>
            <a:ext cx="2422440" cy="14414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2" descr="C:\dibujossm\Geología 17\t17-4e.jpg"/>
          <p:cNvPicPr/>
          <p:nvPr/>
        </p:nvPicPr>
        <p:blipFill>
          <a:blip r:embed="rId4"/>
          <a:stretch/>
        </p:blipFill>
        <p:spPr>
          <a:xfrm>
            <a:off x="2336760" y="3930480"/>
            <a:ext cx="4680000" cy="22924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83"/>
          <p:cNvGrpSpPr/>
          <p:nvPr/>
        </p:nvGrpSpPr>
        <p:grpSpPr>
          <a:xfrm>
            <a:off x="627840" y="2023920"/>
            <a:ext cx="329760" cy="282960"/>
            <a:chOff x="627840" y="2023920"/>
            <a:chExt cx="329760" cy="282960"/>
          </a:xfrm>
        </p:grpSpPr>
        <p:grpSp>
          <p:nvGrpSpPr>
            <p:cNvPr id="537" name="Group 84"/>
            <p:cNvGrpSpPr/>
            <p:nvPr/>
          </p:nvGrpSpPr>
          <p:grpSpPr>
            <a:xfrm>
              <a:off x="627840" y="2032200"/>
              <a:ext cx="199440" cy="274680"/>
              <a:chOff x="627840" y="2032200"/>
              <a:chExt cx="199440" cy="274680"/>
            </a:xfrm>
          </p:grpSpPr>
          <p:sp>
            <p:nvSpPr>
              <p:cNvPr id="538" name="AutoShape 85"/>
              <p:cNvSpPr/>
              <p:nvPr/>
            </p:nvSpPr>
            <p:spPr>
              <a:xfrm flipH="1" rot="19760400">
                <a:off x="660240" y="203292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86"/>
              <p:cNvSpPr/>
              <p:nvPr/>
            </p:nvSpPr>
            <p:spPr>
              <a:xfrm>
                <a:off x="700920" y="209376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87"/>
            <p:cNvGrpSpPr/>
            <p:nvPr/>
          </p:nvGrpSpPr>
          <p:grpSpPr>
            <a:xfrm>
              <a:off x="758160" y="2023920"/>
              <a:ext cx="199440" cy="274680"/>
              <a:chOff x="758160" y="2023920"/>
              <a:chExt cx="199440" cy="274680"/>
            </a:xfrm>
          </p:grpSpPr>
          <p:sp>
            <p:nvSpPr>
              <p:cNvPr id="541" name="AutoShape 88"/>
              <p:cNvSpPr/>
              <p:nvPr/>
            </p:nvSpPr>
            <p:spPr>
              <a:xfrm flipV="1" rot="19760400">
                <a:off x="882720" y="215604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89"/>
              <p:cNvSpPr/>
              <p:nvPr/>
            </p:nvSpPr>
            <p:spPr>
              <a:xfrm flipH="1" flipV="1">
                <a:off x="758160" y="202392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97"/>
          <p:cNvGrpSpPr/>
          <p:nvPr/>
        </p:nvGrpSpPr>
        <p:grpSpPr>
          <a:xfrm>
            <a:off x="144360" y="1887480"/>
            <a:ext cx="1397520" cy="552600"/>
            <a:chOff x="144360" y="1887480"/>
            <a:chExt cx="1397520" cy="552600"/>
          </a:xfrm>
        </p:grpSpPr>
        <p:sp>
          <p:nvSpPr>
            <p:cNvPr id="544" name="AutoShape 98"/>
            <p:cNvSpPr/>
            <p:nvPr/>
          </p:nvSpPr>
          <p:spPr>
            <a:xfrm>
              <a:off x="144360" y="1887480"/>
              <a:ext cx="528840" cy="347760"/>
            </a:xfrm>
            <a:prstGeom prst="leftArrow">
              <a:avLst>
                <a:gd name="adj1" fmla="val 56009"/>
                <a:gd name="adj2" fmla="val 64756"/>
              </a:avLst>
            </a:prstGeom>
            <a:gradFill rotWithShape="0">
              <a:gsLst>
                <a:gs pos="0">
                  <a:srgbClr val="160cd6"/>
                </a:gs>
                <a:gs pos="100000">
                  <a:srgbClr val="a3d1fb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99"/>
            <p:cNvSpPr/>
            <p:nvPr/>
          </p:nvSpPr>
          <p:spPr>
            <a:xfrm flipH="1">
              <a:off x="1012680" y="2092320"/>
              <a:ext cx="528840" cy="347760"/>
            </a:xfrm>
            <a:prstGeom prst="leftArrow">
              <a:avLst>
                <a:gd name="adj1" fmla="val 56009"/>
                <a:gd name="adj2" fmla="val 64756"/>
              </a:avLst>
            </a:prstGeom>
            <a:gradFill rotWithShape="0">
              <a:gsLst>
                <a:gs pos="0">
                  <a:srgbClr val="a3d1fb"/>
                </a:gs>
                <a:gs pos="100000">
                  <a:srgbClr val="160cd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00"/>
          <p:cNvGrpSpPr/>
          <p:nvPr/>
        </p:nvGrpSpPr>
        <p:grpSpPr>
          <a:xfrm>
            <a:off x="3446280" y="1946160"/>
            <a:ext cx="1182960" cy="552600"/>
            <a:chOff x="3446280" y="1946160"/>
            <a:chExt cx="1182960" cy="552600"/>
          </a:xfrm>
        </p:grpSpPr>
        <p:sp>
          <p:nvSpPr>
            <p:cNvPr id="547" name="AutoShape 101"/>
            <p:cNvSpPr/>
            <p:nvPr/>
          </p:nvSpPr>
          <p:spPr>
            <a:xfrm flipH="1">
              <a:off x="3445920" y="1946160"/>
              <a:ext cx="447480" cy="347760"/>
            </a:xfrm>
            <a:prstGeom prst="leftArrow">
              <a:avLst>
                <a:gd name="adj1" fmla="val 56009"/>
                <a:gd name="adj2" fmla="val 54794"/>
              </a:avLst>
            </a:prstGeom>
            <a:gradFill rotWithShape="0">
              <a:gsLst>
                <a:gs pos="0">
                  <a:srgbClr val="160cd6"/>
                </a:gs>
                <a:gs pos="100000">
                  <a:srgbClr val="a3d1fb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02"/>
            <p:cNvSpPr/>
            <p:nvPr/>
          </p:nvSpPr>
          <p:spPr>
            <a:xfrm>
              <a:off x="4181760" y="2151000"/>
              <a:ext cx="447480" cy="347760"/>
            </a:xfrm>
            <a:prstGeom prst="leftArrow">
              <a:avLst>
                <a:gd name="adj1" fmla="val 56009"/>
                <a:gd name="adj2" fmla="val 54794"/>
              </a:avLst>
            </a:prstGeom>
            <a:gradFill rotWithShape="0">
              <a:gsLst>
                <a:gs pos="0">
                  <a:srgbClr val="a3d1fb"/>
                </a:gs>
                <a:gs pos="100000">
                  <a:srgbClr val="160cd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03"/>
          <p:cNvGrpSpPr/>
          <p:nvPr/>
        </p:nvGrpSpPr>
        <p:grpSpPr>
          <a:xfrm>
            <a:off x="6983280" y="2165400"/>
            <a:ext cx="1575000" cy="347760"/>
            <a:chOff x="6983280" y="2165400"/>
            <a:chExt cx="1575000" cy="347760"/>
          </a:xfrm>
        </p:grpSpPr>
        <p:sp>
          <p:nvSpPr>
            <p:cNvPr id="550" name="AutoShape 104"/>
            <p:cNvSpPr/>
            <p:nvPr/>
          </p:nvSpPr>
          <p:spPr>
            <a:xfrm>
              <a:off x="6983280" y="2165400"/>
              <a:ext cx="447840" cy="347760"/>
            </a:xfrm>
            <a:prstGeom prst="leftArrow">
              <a:avLst>
                <a:gd name="adj1" fmla="val 56009"/>
                <a:gd name="adj2" fmla="val 54838"/>
              </a:avLst>
            </a:prstGeom>
            <a:gradFill rotWithShape="0">
              <a:gsLst>
                <a:gs pos="0">
                  <a:srgbClr val="160cd6"/>
                </a:gs>
                <a:gs pos="100000">
                  <a:srgbClr val="a3d1fb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105"/>
            <p:cNvSpPr/>
            <p:nvPr/>
          </p:nvSpPr>
          <p:spPr>
            <a:xfrm flipH="1">
              <a:off x="8110440" y="2165400"/>
              <a:ext cx="447840" cy="347760"/>
            </a:xfrm>
            <a:prstGeom prst="leftArrow">
              <a:avLst>
                <a:gd name="adj1" fmla="val 56009"/>
                <a:gd name="adj2" fmla="val 54838"/>
              </a:avLst>
            </a:prstGeom>
            <a:gradFill rotWithShape="0">
              <a:gsLst>
                <a:gs pos="0">
                  <a:srgbClr val="a3d1fb"/>
                </a:gs>
                <a:gs pos="100000">
                  <a:srgbClr val="160cd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06"/>
          <p:cNvGrpSpPr/>
          <p:nvPr/>
        </p:nvGrpSpPr>
        <p:grpSpPr>
          <a:xfrm>
            <a:off x="7573680" y="1674000"/>
            <a:ext cx="327600" cy="253800"/>
            <a:chOff x="7573680" y="1674000"/>
            <a:chExt cx="327600" cy="253800"/>
          </a:xfrm>
        </p:grpSpPr>
        <p:grpSp>
          <p:nvGrpSpPr>
            <p:cNvPr id="553" name="Group 107"/>
            <p:cNvGrpSpPr/>
            <p:nvPr/>
          </p:nvGrpSpPr>
          <p:grpSpPr>
            <a:xfrm>
              <a:off x="7592040" y="1674000"/>
              <a:ext cx="309240" cy="120960"/>
              <a:chOff x="7592040" y="1674000"/>
              <a:chExt cx="309240" cy="120960"/>
            </a:xfrm>
          </p:grpSpPr>
          <p:sp>
            <p:nvSpPr>
              <p:cNvPr id="554" name="AutoShape 108"/>
              <p:cNvSpPr/>
              <p:nvPr/>
            </p:nvSpPr>
            <p:spPr>
              <a:xfrm flipH="1" rot="4531200">
                <a:off x="7806240" y="164088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09"/>
              <p:cNvSpPr/>
              <p:nvPr/>
            </p:nvSpPr>
            <p:spPr>
              <a:xfrm flipH="1">
                <a:off x="7592040" y="1733040"/>
                <a:ext cx="239760" cy="619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10"/>
            <p:cNvGrpSpPr/>
            <p:nvPr/>
          </p:nvGrpSpPr>
          <p:grpSpPr>
            <a:xfrm>
              <a:off x="7573680" y="1806840"/>
              <a:ext cx="309240" cy="120960"/>
              <a:chOff x="7573680" y="1806840"/>
              <a:chExt cx="309240" cy="120960"/>
            </a:xfrm>
          </p:grpSpPr>
          <p:sp>
            <p:nvSpPr>
              <p:cNvPr id="557" name="AutoShape 111"/>
              <p:cNvSpPr/>
              <p:nvPr/>
            </p:nvSpPr>
            <p:spPr>
              <a:xfrm flipV="1" rot="4531200">
                <a:off x="7626240" y="181908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12"/>
              <p:cNvSpPr/>
              <p:nvPr/>
            </p:nvSpPr>
            <p:spPr>
              <a:xfrm flipV="1">
                <a:off x="7643160" y="1806840"/>
                <a:ext cx="239760" cy="619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9" name="Text Box 113"/>
          <p:cNvSpPr/>
          <p:nvPr/>
        </p:nvSpPr>
        <p:spPr>
          <a:xfrm>
            <a:off x="316080" y="2941920"/>
            <a:ext cx="23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Tw Cen MT"/>
              </a:rPr>
              <a:t>Falla normal o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14"/>
          <p:cNvSpPr/>
          <p:nvPr/>
        </p:nvSpPr>
        <p:spPr>
          <a:xfrm>
            <a:off x="3881520" y="306360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Tw Cen MT"/>
              </a:rPr>
              <a:t>Falla inv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15"/>
          <p:cNvSpPr/>
          <p:nvPr/>
        </p:nvSpPr>
        <p:spPr>
          <a:xfrm>
            <a:off x="6838920" y="2941920"/>
            <a:ext cx="18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Tw Cen MT"/>
              </a:rPr>
              <a:t>Falla de desga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16"/>
          <p:cNvSpPr/>
          <p:nvPr/>
        </p:nvSpPr>
        <p:spPr>
          <a:xfrm>
            <a:off x="2689200" y="6325920"/>
            <a:ext cx="21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Tw Cen MT"/>
              </a:rPr>
              <a:t>Sistemas de fa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17"/>
          <p:cNvGrpSpPr/>
          <p:nvPr/>
        </p:nvGrpSpPr>
        <p:grpSpPr>
          <a:xfrm>
            <a:off x="2680560" y="5229000"/>
            <a:ext cx="329760" cy="282960"/>
            <a:chOff x="2680560" y="5229000"/>
            <a:chExt cx="329760" cy="282960"/>
          </a:xfrm>
        </p:grpSpPr>
        <p:grpSp>
          <p:nvGrpSpPr>
            <p:cNvPr id="564" name="Group 118"/>
            <p:cNvGrpSpPr/>
            <p:nvPr/>
          </p:nvGrpSpPr>
          <p:grpSpPr>
            <a:xfrm>
              <a:off x="2810880" y="5237280"/>
              <a:ext cx="199440" cy="274680"/>
              <a:chOff x="2810880" y="5237280"/>
              <a:chExt cx="199440" cy="274680"/>
            </a:xfrm>
          </p:grpSpPr>
          <p:sp>
            <p:nvSpPr>
              <p:cNvPr id="565" name="AutoShape 119"/>
              <p:cNvSpPr/>
              <p:nvPr/>
            </p:nvSpPr>
            <p:spPr>
              <a:xfrm rot="1839600">
                <a:off x="2935440" y="523800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20"/>
              <p:cNvSpPr/>
              <p:nvPr/>
            </p:nvSpPr>
            <p:spPr>
              <a:xfrm flipH="1">
                <a:off x="2810880" y="529884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21"/>
            <p:cNvGrpSpPr/>
            <p:nvPr/>
          </p:nvGrpSpPr>
          <p:grpSpPr>
            <a:xfrm>
              <a:off x="2680560" y="5229000"/>
              <a:ext cx="199440" cy="274680"/>
              <a:chOff x="2680560" y="5229000"/>
              <a:chExt cx="199440" cy="274680"/>
            </a:xfrm>
          </p:grpSpPr>
          <p:sp>
            <p:nvSpPr>
              <p:cNvPr id="568" name="AutoShape 122"/>
              <p:cNvSpPr/>
              <p:nvPr/>
            </p:nvSpPr>
            <p:spPr>
              <a:xfrm flipH="1" flipV="1" rot="1839600">
                <a:off x="2712960" y="536112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123"/>
              <p:cNvSpPr/>
              <p:nvPr/>
            </p:nvSpPr>
            <p:spPr>
              <a:xfrm flipV="1">
                <a:off x="2753640" y="522900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Group 124"/>
          <p:cNvGrpSpPr/>
          <p:nvPr/>
        </p:nvGrpSpPr>
        <p:grpSpPr>
          <a:xfrm>
            <a:off x="4931640" y="5590800"/>
            <a:ext cx="329760" cy="282960"/>
            <a:chOff x="4931640" y="5590800"/>
            <a:chExt cx="329760" cy="282960"/>
          </a:xfrm>
        </p:grpSpPr>
        <p:grpSp>
          <p:nvGrpSpPr>
            <p:cNvPr id="571" name="Group 125"/>
            <p:cNvGrpSpPr/>
            <p:nvPr/>
          </p:nvGrpSpPr>
          <p:grpSpPr>
            <a:xfrm>
              <a:off x="5061960" y="5599080"/>
              <a:ext cx="199440" cy="274680"/>
              <a:chOff x="5061960" y="5599080"/>
              <a:chExt cx="199440" cy="274680"/>
            </a:xfrm>
          </p:grpSpPr>
          <p:sp>
            <p:nvSpPr>
              <p:cNvPr id="572" name="AutoShape 126"/>
              <p:cNvSpPr/>
              <p:nvPr/>
            </p:nvSpPr>
            <p:spPr>
              <a:xfrm rot="1839600">
                <a:off x="5186520" y="559980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127"/>
              <p:cNvSpPr/>
              <p:nvPr/>
            </p:nvSpPr>
            <p:spPr>
              <a:xfrm flipH="1">
                <a:off x="5061960" y="566064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28"/>
            <p:cNvGrpSpPr/>
            <p:nvPr/>
          </p:nvGrpSpPr>
          <p:grpSpPr>
            <a:xfrm>
              <a:off x="4931640" y="5590800"/>
              <a:ext cx="199440" cy="274680"/>
              <a:chOff x="4931640" y="5590800"/>
              <a:chExt cx="199440" cy="274680"/>
            </a:xfrm>
          </p:grpSpPr>
          <p:sp>
            <p:nvSpPr>
              <p:cNvPr id="575" name="AutoShape 129"/>
              <p:cNvSpPr/>
              <p:nvPr/>
            </p:nvSpPr>
            <p:spPr>
              <a:xfrm flipH="1" flipV="1" rot="1839600">
                <a:off x="4964040" y="572292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130"/>
              <p:cNvSpPr/>
              <p:nvPr/>
            </p:nvSpPr>
            <p:spPr>
              <a:xfrm flipV="1">
                <a:off x="5004720" y="559080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Group 131"/>
          <p:cNvGrpSpPr/>
          <p:nvPr/>
        </p:nvGrpSpPr>
        <p:grpSpPr>
          <a:xfrm>
            <a:off x="4272840" y="5332680"/>
            <a:ext cx="167760" cy="364320"/>
            <a:chOff x="4272840" y="5332680"/>
            <a:chExt cx="167760" cy="364320"/>
          </a:xfrm>
        </p:grpSpPr>
        <p:grpSp>
          <p:nvGrpSpPr>
            <p:cNvPr id="578" name="Group 132"/>
            <p:cNvGrpSpPr/>
            <p:nvPr/>
          </p:nvGrpSpPr>
          <p:grpSpPr>
            <a:xfrm>
              <a:off x="4272840" y="5332680"/>
              <a:ext cx="45000" cy="320400"/>
              <a:chOff x="4272840" y="5332680"/>
              <a:chExt cx="45000" cy="320400"/>
            </a:xfrm>
          </p:grpSpPr>
          <p:sp>
            <p:nvSpPr>
              <p:cNvPr id="579" name="AutoShape 133"/>
              <p:cNvSpPr/>
              <p:nvPr/>
            </p:nvSpPr>
            <p:spPr>
              <a:xfrm flipH="1" rot="75000">
                <a:off x="4273920" y="533304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134"/>
              <p:cNvSpPr/>
              <p:nvPr/>
            </p:nvSpPr>
            <p:spPr>
              <a:xfrm flipH="1">
                <a:off x="4311360" y="5405400"/>
                <a:ext cx="5400" cy="24768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35"/>
            <p:cNvGrpSpPr/>
            <p:nvPr/>
          </p:nvGrpSpPr>
          <p:grpSpPr>
            <a:xfrm>
              <a:off x="4395600" y="5376600"/>
              <a:ext cx="45000" cy="320400"/>
              <a:chOff x="4395600" y="5376600"/>
              <a:chExt cx="45000" cy="320400"/>
            </a:xfrm>
          </p:grpSpPr>
          <p:sp>
            <p:nvSpPr>
              <p:cNvPr id="582" name="AutoShape 136"/>
              <p:cNvSpPr/>
              <p:nvPr/>
            </p:nvSpPr>
            <p:spPr>
              <a:xfrm flipV="1" rot="75000">
                <a:off x="4397040" y="555552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37"/>
              <p:cNvSpPr/>
              <p:nvPr/>
            </p:nvSpPr>
            <p:spPr>
              <a:xfrm flipV="1">
                <a:off x="4396680" y="5376600"/>
                <a:ext cx="5400" cy="24768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4" name="Text Box 138"/>
          <p:cNvSpPr/>
          <p:nvPr/>
        </p:nvSpPr>
        <p:spPr>
          <a:xfrm>
            <a:off x="152280" y="33339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l plano de falla buza hacia el labio hund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9"/>
          <p:cNvSpPr/>
          <p:nvPr/>
        </p:nvSpPr>
        <p:spPr>
          <a:xfrm>
            <a:off x="2841480" y="3221280"/>
            <a:ext cx="398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l plano de falla buza hacia el labio levan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40"/>
          <p:cNvSpPr/>
          <p:nvPr/>
        </p:nvSpPr>
        <p:spPr>
          <a:xfrm>
            <a:off x="6881760" y="3327840"/>
            <a:ext cx="212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No hay labio levantado ni hund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1"/>
          <p:cNvSpPr/>
          <p:nvPr/>
        </p:nvSpPr>
        <p:spPr>
          <a:xfrm>
            <a:off x="152280" y="37468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Se origina por fuerzas de trac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2"/>
          <p:cNvSpPr/>
          <p:nvPr/>
        </p:nvSpPr>
        <p:spPr>
          <a:xfrm>
            <a:off x="2844720" y="3575520"/>
            <a:ext cx="39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Se origina por esfuerzos de compres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3"/>
          <p:cNvSpPr/>
          <p:nvPr/>
        </p:nvSpPr>
        <p:spPr>
          <a:xfrm>
            <a:off x="6881760" y="3746880"/>
            <a:ext cx="212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Hay un desplazamiento relativo de los bloq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44"/>
          <p:cNvGrpSpPr/>
          <p:nvPr/>
        </p:nvGrpSpPr>
        <p:grpSpPr>
          <a:xfrm>
            <a:off x="2424240" y="5266800"/>
            <a:ext cx="1154160" cy="797040"/>
            <a:chOff x="2424240" y="5266800"/>
            <a:chExt cx="1154160" cy="797040"/>
          </a:xfrm>
        </p:grpSpPr>
        <p:sp>
          <p:nvSpPr>
            <p:cNvPr id="591" name="Text Box 145"/>
            <p:cNvSpPr/>
            <p:nvPr/>
          </p:nvSpPr>
          <p:spPr>
            <a:xfrm>
              <a:off x="2424240" y="5756760"/>
              <a:ext cx="115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Hor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46"/>
            <p:cNvSpPr/>
            <p:nvPr/>
          </p:nvSpPr>
          <p:spPr>
            <a:xfrm flipV="1">
              <a:off x="3059280" y="5266800"/>
              <a:ext cx="360360" cy="535320"/>
            </a:xfrm>
            <a:prstGeom prst="line">
              <a:avLst/>
            </a:prstGeom>
            <a:ln w="1260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47"/>
          <p:cNvGrpSpPr/>
          <p:nvPr/>
        </p:nvGrpSpPr>
        <p:grpSpPr>
          <a:xfrm>
            <a:off x="4489560" y="5541480"/>
            <a:ext cx="1154160" cy="795600"/>
            <a:chOff x="4489560" y="5541480"/>
            <a:chExt cx="1154160" cy="795600"/>
          </a:xfrm>
        </p:grpSpPr>
        <p:sp>
          <p:nvSpPr>
            <p:cNvPr id="594" name="Text Box 148"/>
            <p:cNvSpPr/>
            <p:nvPr/>
          </p:nvSpPr>
          <p:spPr>
            <a:xfrm>
              <a:off x="4489560" y="6030000"/>
              <a:ext cx="115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Grab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49"/>
            <p:cNvSpPr/>
            <p:nvPr/>
          </p:nvSpPr>
          <p:spPr>
            <a:xfrm flipH="1" flipV="1">
              <a:off x="4603320" y="5541480"/>
              <a:ext cx="376200" cy="551160"/>
            </a:xfrm>
            <a:prstGeom prst="line">
              <a:avLst/>
            </a:prstGeom>
            <a:ln w="1260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Text Box 150"/>
          <p:cNvSpPr/>
          <p:nvPr/>
        </p:nvSpPr>
        <p:spPr>
          <a:xfrm>
            <a:off x="488880" y="5860800"/>
            <a:ext cx="264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w Cen MT"/>
              </a:rPr>
              <a:t>Bloque levantado limitado por fal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51"/>
          <p:cNvSpPr/>
          <p:nvPr/>
        </p:nvSpPr>
        <p:spPr>
          <a:xfrm>
            <a:off x="5051520" y="6149880"/>
            <a:ext cx="26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w Cen MT"/>
              </a:rPr>
              <a:t>Bloque hundido limitado por fal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152"/>
          <p:cNvGrpSpPr/>
          <p:nvPr/>
        </p:nvGrpSpPr>
        <p:grpSpPr>
          <a:xfrm>
            <a:off x="3940560" y="2013480"/>
            <a:ext cx="179640" cy="397440"/>
            <a:chOff x="3940560" y="2013480"/>
            <a:chExt cx="179640" cy="397440"/>
          </a:xfrm>
        </p:grpSpPr>
        <p:grpSp>
          <p:nvGrpSpPr>
            <p:cNvPr id="599" name="Group 153"/>
            <p:cNvGrpSpPr/>
            <p:nvPr/>
          </p:nvGrpSpPr>
          <p:grpSpPr>
            <a:xfrm>
              <a:off x="3940560" y="2013480"/>
              <a:ext cx="115200" cy="313200"/>
              <a:chOff x="3940560" y="2013480"/>
              <a:chExt cx="115200" cy="313200"/>
            </a:xfrm>
          </p:grpSpPr>
          <p:sp>
            <p:nvSpPr>
              <p:cNvPr id="600" name="AutoShape 154"/>
              <p:cNvSpPr/>
              <p:nvPr/>
            </p:nvSpPr>
            <p:spPr>
              <a:xfrm flipH="1" rot="1272000">
                <a:off x="3989520" y="201600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55"/>
              <p:cNvSpPr/>
              <p:nvPr/>
            </p:nvSpPr>
            <p:spPr>
              <a:xfrm flipH="1">
                <a:off x="3940560" y="2095920"/>
                <a:ext cx="89640" cy="23076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156"/>
            <p:cNvGrpSpPr/>
            <p:nvPr/>
          </p:nvGrpSpPr>
          <p:grpSpPr>
            <a:xfrm>
              <a:off x="4005360" y="2097360"/>
              <a:ext cx="114840" cy="313560"/>
              <a:chOff x="4005360" y="2097360"/>
              <a:chExt cx="114840" cy="313560"/>
            </a:xfrm>
          </p:grpSpPr>
          <p:sp>
            <p:nvSpPr>
              <p:cNvPr id="603" name="AutoShape 157"/>
              <p:cNvSpPr/>
              <p:nvPr/>
            </p:nvSpPr>
            <p:spPr>
              <a:xfrm flipV="1" rot="1272000">
                <a:off x="4029120" y="226656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58"/>
              <p:cNvSpPr/>
              <p:nvPr/>
            </p:nvSpPr>
            <p:spPr>
              <a:xfrm flipV="1">
                <a:off x="4030560" y="2097360"/>
                <a:ext cx="89640" cy="23076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78"/>
          <p:cNvSpPr/>
          <p:nvPr/>
        </p:nvSpPr>
        <p:spPr>
          <a:xfrm>
            <a:off x="1828800" y="57312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MMedium"/>
              </a:rPr>
              <a:t>Cómo identificar una estructura tect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79"/>
          <p:cNvGrpSpPr/>
          <p:nvPr/>
        </p:nvGrpSpPr>
        <p:grpSpPr>
          <a:xfrm>
            <a:off x="4792680" y="4893480"/>
            <a:ext cx="4187880" cy="529200"/>
            <a:chOff x="4792680" y="4893480"/>
            <a:chExt cx="4187880" cy="529200"/>
          </a:xfrm>
        </p:grpSpPr>
        <p:pic>
          <p:nvPicPr>
            <p:cNvPr id="607" name="Picture 80" descr="C:\dibujossm\Geología 17\t17-4g1.jpg"/>
            <p:cNvPicPr/>
            <p:nvPr/>
          </p:nvPicPr>
          <p:blipFill>
            <a:blip r:embed="rId1"/>
            <a:srcRect l="6649" t="6754" r="6649" b="6754"/>
            <a:stretch/>
          </p:blipFill>
          <p:spPr>
            <a:xfrm>
              <a:off x="4792680" y="5194080"/>
              <a:ext cx="4187880" cy="22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8" name="Group 81"/>
            <p:cNvGrpSpPr/>
            <p:nvPr/>
          </p:nvGrpSpPr>
          <p:grpSpPr>
            <a:xfrm>
              <a:off x="4888080" y="4893480"/>
              <a:ext cx="3933720" cy="368280"/>
              <a:chOff x="4888080" y="4893480"/>
              <a:chExt cx="3933720" cy="368280"/>
            </a:xfrm>
          </p:grpSpPr>
          <p:sp>
            <p:nvSpPr>
              <p:cNvPr id="609" name="Text Box 82"/>
              <p:cNvSpPr/>
              <p:nvPr/>
            </p:nvSpPr>
            <p:spPr>
              <a:xfrm>
                <a:off x="838836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83"/>
              <p:cNvSpPr/>
              <p:nvPr/>
            </p:nvSpPr>
            <p:spPr>
              <a:xfrm>
                <a:off x="488808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84"/>
              <p:cNvSpPr/>
              <p:nvPr/>
            </p:nvSpPr>
            <p:spPr>
              <a:xfrm>
                <a:off x="635148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85"/>
              <p:cNvSpPr/>
              <p:nvPr/>
            </p:nvSpPr>
            <p:spPr>
              <a:xfrm>
                <a:off x="748512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86"/>
              <p:cNvSpPr/>
              <p:nvPr/>
            </p:nvSpPr>
            <p:spPr>
              <a:xfrm>
                <a:off x="565164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Text Box 87"/>
              <p:cNvSpPr/>
              <p:nvPr/>
            </p:nvSpPr>
            <p:spPr>
              <a:xfrm>
                <a:off x="675324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5" name="Arc 88"/>
          <p:cNvSpPr/>
          <p:nvPr/>
        </p:nvSpPr>
        <p:spPr>
          <a:xfrm flipV="1">
            <a:off x="6891480" y="5199840"/>
            <a:ext cx="77760" cy="136440"/>
          </a:xfrm>
          <a:prstGeom prst="pie">
            <a:avLst/>
          </a:prstGeom>
          <a:noFill/>
          <a:ln w="22320">
            <a:solidFill>
              <a:srgbClr val="00ff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9"/>
          <p:cNvSpPr/>
          <p:nvPr/>
        </p:nvSpPr>
        <p:spPr>
          <a:xfrm>
            <a:off x="133200" y="3705480"/>
            <a:ext cx="8853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Si los estratos no están horizontales, la repetición de materiales en la superficie indica la existencia de una estructur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0"/>
          <p:cNvSpPr/>
          <p:nvPr/>
        </p:nvSpPr>
        <p:spPr>
          <a:xfrm>
            <a:off x="196920" y="4542480"/>
            <a:ext cx="4459320" cy="291960"/>
          </a:xfrm>
          <a:prstGeom prst="rect">
            <a:avLst/>
          </a:prstGeom>
          <a:solidFill>
            <a:srgbClr val="a3f9d2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Si la repetición es simétrica la estructura es un pliegu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1"/>
          <p:cNvSpPr/>
          <p:nvPr/>
        </p:nvSpPr>
        <p:spPr>
          <a:xfrm>
            <a:off x="409680" y="5471280"/>
            <a:ext cx="3927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Si </a:t>
            </a:r>
            <a:r>
              <a:rPr b="0" lang="es-ES_tradnl" sz="1300" spc="-1" strike="noStrike">
                <a:solidFill>
                  <a:srgbClr val="006600"/>
                </a:solidFill>
                <a:latin typeface="Tw Cen MT"/>
              </a:rPr>
              <a:t>el material central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 es el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más antiguo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 es un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anticlinal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, si es el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más moderno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 será un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sinclinal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92"/>
          <p:cNvSpPr/>
          <p:nvPr/>
        </p:nvSpPr>
        <p:spPr>
          <a:xfrm>
            <a:off x="4730760" y="4451760"/>
            <a:ext cx="4248000" cy="489960"/>
          </a:xfrm>
          <a:prstGeom prst="rect">
            <a:avLst/>
          </a:prstGeom>
          <a:solidFill>
            <a:srgbClr val="a3f9d2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Si la repetición sigue un orden la estructura es una fall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3"/>
          <p:cNvSpPr/>
          <p:nvPr/>
        </p:nvSpPr>
        <p:spPr>
          <a:xfrm>
            <a:off x="5060880" y="5562360"/>
            <a:ext cx="3753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Si el </a:t>
            </a:r>
            <a:r>
              <a:rPr b="0" lang="es-ES_tradnl" sz="1300" spc="-1" strike="noStrike">
                <a:solidFill>
                  <a:srgbClr val="006600"/>
                </a:solidFill>
                <a:latin typeface="Tw Cen MT"/>
              </a:rPr>
              <a:t>plano de falla buza hacia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 el material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más moderno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 será una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falla normal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, si buza hacia el material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más antiguo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, una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falla inversa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94"/>
          <p:cNvGrpSpPr/>
          <p:nvPr/>
        </p:nvGrpSpPr>
        <p:grpSpPr>
          <a:xfrm>
            <a:off x="281160" y="1201680"/>
            <a:ext cx="3958920" cy="2457360"/>
            <a:chOff x="281160" y="1201680"/>
            <a:chExt cx="3958920" cy="2457360"/>
          </a:xfrm>
        </p:grpSpPr>
        <p:pic>
          <p:nvPicPr>
            <p:cNvPr id="622" name="Picture 95" descr="C:\dibujossm\Geología 17\t17-4f.jpg"/>
            <p:cNvPicPr/>
            <p:nvPr/>
          </p:nvPicPr>
          <p:blipFill>
            <a:blip r:embed="rId2"/>
            <a:stretch/>
          </p:blipFill>
          <p:spPr>
            <a:xfrm>
              <a:off x="281160" y="1201680"/>
              <a:ext cx="39589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 Box 96"/>
            <p:cNvSpPr/>
            <p:nvPr/>
          </p:nvSpPr>
          <p:spPr>
            <a:xfrm>
              <a:off x="3365280" y="145656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w Cen MT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97"/>
            <p:cNvSpPr/>
            <p:nvPr/>
          </p:nvSpPr>
          <p:spPr>
            <a:xfrm>
              <a:off x="823680" y="128520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w Cen MT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98"/>
            <p:cNvSpPr/>
            <p:nvPr/>
          </p:nvSpPr>
          <p:spPr>
            <a:xfrm>
              <a:off x="2063520" y="137088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w Cen MT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99"/>
            <p:cNvSpPr/>
            <p:nvPr/>
          </p:nvSpPr>
          <p:spPr>
            <a:xfrm>
              <a:off x="2744640" y="142812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w Cen MT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100"/>
            <p:cNvSpPr/>
            <p:nvPr/>
          </p:nvSpPr>
          <p:spPr>
            <a:xfrm>
              <a:off x="1400040" y="1313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w Cen MT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01"/>
          <p:cNvGrpSpPr/>
          <p:nvPr/>
        </p:nvGrpSpPr>
        <p:grpSpPr>
          <a:xfrm>
            <a:off x="4944960" y="1227240"/>
            <a:ext cx="3959280" cy="2428920"/>
            <a:chOff x="4944960" y="1227240"/>
            <a:chExt cx="3959280" cy="2428920"/>
          </a:xfrm>
        </p:grpSpPr>
        <p:pic>
          <p:nvPicPr>
            <p:cNvPr id="629" name="Picture 102" descr="C:\dibujossm\Geología 17\t17-4g.jpg"/>
            <p:cNvPicPr/>
            <p:nvPr/>
          </p:nvPicPr>
          <p:blipFill>
            <a:blip r:embed="rId3"/>
            <a:stretch/>
          </p:blipFill>
          <p:spPr>
            <a:xfrm>
              <a:off x="4944960" y="1227240"/>
              <a:ext cx="3959280" cy="242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" name="Group 103"/>
            <p:cNvGrpSpPr/>
            <p:nvPr/>
          </p:nvGrpSpPr>
          <p:grpSpPr>
            <a:xfrm>
              <a:off x="5619600" y="1264680"/>
              <a:ext cx="2917800" cy="603000"/>
              <a:chOff x="5619600" y="1264680"/>
              <a:chExt cx="2917800" cy="603000"/>
            </a:xfrm>
          </p:grpSpPr>
          <p:sp>
            <p:nvSpPr>
              <p:cNvPr id="631" name="Text Box 104"/>
              <p:cNvSpPr/>
              <p:nvPr/>
            </p:nvSpPr>
            <p:spPr>
              <a:xfrm>
                <a:off x="8103960" y="14994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105"/>
              <p:cNvSpPr/>
              <p:nvPr/>
            </p:nvSpPr>
            <p:spPr>
              <a:xfrm>
                <a:off x="5619600" y="12646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 Box 106"/>
              <p:cNvSpPr/>
              <p:nvPr/>
            </p:nvSpPr>
            <p:spPr>
              <a:xfrm>
                <a:off x="6637320" y="136908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 Box 107"/>
              <p:cNvSpPr/>
              <p:nvPr/>
            </p:nvSpPr>
            <p:spPr>
              <a:xfrm>
                <a:off x="7381800" y="14198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108"/>
              <p:cNvSpPr/>
              <p:nvPr/>
            </p:nvSpPr>
            <p:spPr>
              <a:xfrm>
                <a:off x="6151320" y="130572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109"/>
              <p:cNvSpPr/>
              <p:nvPr/>
            </p:nvSpPr>
            <p:spPr>
              <a:xfrm>
                <a:off x="6900840" y="137232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Line 110"/>
          <p:cNvSpPr/>
          <p:nvPr/>
        </p:nvSpPr>
        <p:spPr>
          <a:xfrm flipH="1" flipV="1">
            <a:off x="6678360" y="5098680"/>
            <a:ext cx="555480" cy="5367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11"/>
          <p:cNvSpPr/>
          <p:nvPr/>
        </p:nvSpPr>
        <p:spPr>
          <a:xfrm>
            <a:off x="6294600" y="5194440"/>
            <a:ext cx="118404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112"/>
          <p:cNvGrpSpPr/>
          <p:nvPr/>
        </p:nvGrpSpPr>
        <p:grpSpPr>
          <a:xfrm>
            <a:off x="506520" y="4917240"/>
            <a:ext cx="3525840" cy="511920"/>
            <a:chOff x="506520" y="4917240"/>
            <a:chExt cx="3525840" cy="511920"/>
          </a:xfrm>
        </p:grpSpPr>
        <p:grpSp>
          <p:nvGrpSpPr>
            <p:cNvPr id="640" name="Group 113"/>
            <p:cNvGrpSpPr/>
            <p:nvPr/>
          </p:nvGrpSpPr>
          <p:grpSpPr>
            <a:xfrm>
              <a:off x="506520" y="4917240"/>
              <a:ext cx="3303360" cy="368280"/>
              <a:chOff x="506520" y="4917240"/>
              <a:chExt cx="3303360" cy="368280"/>
            </a:xfrm>
          </p:grpSpPr>
          <p:sp>
            <p:nvSpPr>
              <p:cNvPr id="641" name="Text Box 114"/>
              <p:cNvSpPr/>
              <p:nvPr/>
            </p:nvSpPr>
            <p:spPr>
              <a:xfrm>
                <a:off x="3376440" y="49172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115"/>
              <p:cNvSpPr/>
              <p:nvPr/>
            </p:nvSpPr>
            <p:spPr>
              <a:xfrm>
                <a:off x="506520" y="491724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116"/>
              <p:cNvSpPr/>
              <p:nvPr/>
            </p:nvSpPr>
            <p:spPr>
              <a:xfrm>
                <a:off x="1960560" y="49172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117"/>
              <p:cNvSpPr/>
              <p:nvPr/>
            </p:nvSpPr>
            <p:spPr>
              <a:xfrm>
                <a:off x="2641680" y="491724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Text Box 118"/>
              <p:cNvSpPr/>
              <p:nvPr/>
            </p:nvSpPr>
            <p:spPr>
              <a:xfrm>
                <a:off x="1054080" y="49172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6" name="Picture 119" descr="C:\dibujossm\Geología 17\t17-4f1.jpg"/>
            <p:cNvPicPr/>
            <p:nvPr/>
          </p:nvPicPr>
          <p:blipFill>
            <a:blip r:embed="rId4"/>
            <a:srcRect l="0" t="0" r="0" b="38041"/>
            <a:stretch/>
          </p:blipFill>
          <p:spPr>
            <a:xfrm>
              <a:off x="517320" y="5211720"/>
              <a:ext cx="3515040" cy="2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Line 120"/>
          <p:cNvSpPr/>
          <p:nvPr/>
        </p:nvSpPr>
        <p:spPr>
          <a:xfrm>
            <a:off x="4683240" y="4521240"/>
            <a:ext cx="0" cy="17478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1"/>
          <p:cNvSpPr/>
          <p:nvPr/>
        </p:nvSpPr>
        <p:spPr>
          <a:xfrm>
            <a:off x="6735600" y="520308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66ff33"/>
                </a:solidFill>
                <a:latin typeface="Tw Cen MT"/>
              </a:rPr>
              <a:t>Buz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8:41:52Z</dcterms:created>
  <dc:creator>Inma</dc:creator>
  <dc:description/>
  <dc:language>en-US</dc:language>
  <cp:lastModifiedBy>Inma</cp:lastModifiedBy>
  <dcterms:modified xsi:type="dcterms:W3CDTF">2010-11-25T17:33:55Z</dcterms:modified>
  <cp:revision>7</cp:revision>
  <dc:subject/>
  <dc:title>Tema 11</dc:title>
</cp:coreProperties>
</file>